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7.png" ContentType="image/png"/>
  <Override PartName="/ppt/media/image32.png" ContentType="image/png"/>
  <Override PartName="/ppt/media/image1.jpeg" ContentType="image/jpeg"/>
  <Override PartName="/ppt/media/image27.png" ContentType="image/png"/>
  <Override PartName="/ppt/media/image12.wmf" ContentType="image/x-wmf"/>
  <Override PartName="/ppt/media/image8.png" ContentType="image/png"/>
  <Override PartName="/ppt/media/image11.jpeg" ContentType="image/jpeg"/>
  <Override PartName="/ppt/media/image28.png" ContentType="image/png"/>
  <Override PartName="/ppt/media/image30.png" ContentType="image/png"/>
  <Override PartName="/ppt/media/image4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0.jpeg" ContentType="image/jpeg"/>
  <Override PartName="/ppt/media/image14.png" ContentType="image/png"/>
  <Override PartName="/ppt/media/image24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2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38160" y="748800"/>
            <a:ext cx="5013360" cy="376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9048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3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4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84B9-0804-40C8-8AD5-41EA16799D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38160" y="749160"/>
            <a:ext cx="5013360" cy="3760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90480" y="47610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нк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ижний колонтитул 3"/>
          <p:cNvSpPr/>
          <p:nvPr/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омер слайда 4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205-5E33-4DEF-B339-C7C87E8B6E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234720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688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500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128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500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128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688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360" y="234720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3688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8500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01280" y="98064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36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8500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01280" y="2347200"/>
            <a:ext cx="2682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6880" y="234720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880" y="980640"/>
            <a:ext cx="40647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2347200"/>
            <a:ext cx="83296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93760" indent="-292320"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82600">
              <a:buClr>
                <a:srgbClr val="000000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71560" indent="-284040">
              <a:buClr>
                <a:srgbClr val="000000"/>
              </a:buClr>
              <a:buFont typeface="Arial"/>
              <a:buChar char="-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638280"/>
            <a:ext cx="9144000" cy="36360"/>
          </a:xfrm>
          <a:prstGeom prst="rect">
            <a:avLst/>
          </a:prstGeom>
          <a:solidFill>
            <a:srgbClr val="606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748720" y="6524640"/>
            <a:ext cx="200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C7CB-421A-43CD-A597-DF3D12D5832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0" y="638280"/>
            <a:ext cx="9144000" cy="36360"/>
          </a:xfrm>
          <a:prstGeom prst="rect">
            <a:avLst/>
          </a:prstGeom>
          <a:solidFill>
            <a:srgbClr val="606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5"/>
          <p:cNvSpPr/>
          <p:nvPr/>
        </p:nvSpPr>
        <p:spPr>
          <a:xfrm>
            <a:off x="8748720" y="6524640"/>
            <a:ext cx="2001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8666-8D3D-42DA-BE38-5F0827AE7DFE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142920" y="428760"/>
            <a:ext cx="900108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" name="Rectangle 3"/>
            <p:cNvSpPr/>
            <p:nvPr/>
          </p:nvSpPr>
          <p:spPr>
            <a:xfrm>
              <a:off x="0" y="0"/>
              <a:ext cx="313200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" name="Rectangle 6"/>
              <p:cNvSpPr/>
              <p:nvPr/>
            </p:nvSpPr>
            <p:spPr>
              <a:xfrm>
                <a:off x="573120" y="3583080"/>
                <a:ext cx="5810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7"/>
              <p:cNvSpPr/>
              <p:nvPr/>
            </p:nvSpPr>
            <p:spPr>
              <a:xfrm>
                <a:off x="1716120" y="1690560"/>
                <a:ext cx="5810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13"/>
              <p:cNvSpPr/>
              <p:nvPr/>
            </p:nvSpPr>
            <p:spPr>
              <a:xfrm>
                <a:off x="1716120" y="2324160"/>
                <a:ext cx="5810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20"/>
              <p:cNvSpPr/>
              <p:nvPr/>
            </p:nvSpPr>
            <p:spPr>
              <a:xfrm>
                <a:off x="573120" y="2948040"/>
                <a:ext cx="5810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1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6637320" y="318960"/>
            <a:ext cx="2292480" cy="3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logo"/>
          <p:cNvPicPr/>
          <p:nvPr/>
        </p:nvPicPr>
        <p:blipFill>
          <a:blip r:embed="rId3"/>
          <a:stretch/>
        </p:blipFill>
        <p:spPr>
          <a:xfrm>
            <a:off x="255600" y="318960"/>
            <a:ext cx="1816200" cy="3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Emblema_VSCS_na_anglijskom.png"/>
          <p:cNvPicPr/>
          <p:nvPr/>
        </p:nvPicPr>
        <p:blipFill>
          <a:blip r:embed="rId4"/>
          <a:stretch/>
        </p:blipFill>
        <p:spPr>
          <a:xfrm>
            <a:off x="142920" y="6143760"/>
            <a:ext cx="884160" cy="541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68360" y="980640"/>
            <a:ext cx="832968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93760" indent="-292320">
              <a:buClr>
                <a:srgbClr val="000000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77800" indent="-282600">
              <a:buClr>
                <a:srgbClr val="000000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871560" indent="-284040">
              <a:buClr>
                <a:srgbClr val="000000"/>
              </a:buClr>
              <a:buFont typeface="Arial"/>
              <a:buChar char="-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1"/>
          </p:nvPr>
        </p:nvSpPr>
        <p:spPr>
          <a:xfrm>
            <a:off x="317160" y="5805000"/>
            <a:ext cx="199548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jpe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1844640"/>
            <a:ext cx="5767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РОНЕЖСКИЙ АВИАЦИОННЫЙ ТЕХНОПАРК</a:t>
            </a:r>
            <a:br>
              <a:rPr sz="32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цепция организации</a:t>
            </a:r>
            <a:endParaRPr b="1" lang="en-US" sz="2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684360" y="4653000"/>
            <a:ext cx="75596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Arial"/>
              </a:rPr>
              <a:t>Разработчик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Консалтинговая группа ЗАО «Воронежский сервисный центр станкостро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611280" y="5445000"/>
            <a:ext cx="84247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2060"/>
                </a:solidFill>
                <a:uFillTx/>
                <a:latin typeface="Arial"/>
              </a:rPr>
              <a:t>Концепция согласов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2060"/>
                </a:solidFill>
                <a:latin typeface="Arial"/>
              </a:rPr>
              <a:t>с Департаментом реструктуризации производственных активов ОАО «ОАК»  -21 января 2014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2060"/>
                </a:solidFill>
                <a:latin typeface="Arial"/>
              </a:rPr>
              <a:t>на  заседании рабочей группы Координационного комитета по реструктуризации ДЗО ОАО «ОАК» - 11 марта 2014 г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50920" y="785880"/>
          <a:ext cx="8678880" cy="5641920"/>
        </p:xfrm>
        <a:graphic>
          <a:graphicData uri="http://schemas.openxmlformats.org/drawingml/2006/table">
            <a:tbl>
              <a:tblPr/>
              <a:tblGrid>
                <a:gridCol w="2670120"/>
                <a:gridCol w="6008760"/>
              </a:tblGrid>
              <a:tr h="72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оставляемые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ВАС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комплексного обеспечения резидентов всеми видами энергии: электро и теплоснабжение, пар, сжатый воздух, холодная и горячая в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УК ВАТ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связи, строительство новых зданий и сооружений, строительно-монтажные работы по установке оборудования, обслуживание и ремонт оборудования, обслуживание и ремонт энергосетей, зданий и сооружений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ДИП–сервис», ООО «Инвест-серви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нговые услуги (уборка помещен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7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ВАСО ТРАНСАВТ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внутреннего и внешнего грузов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 «ВСЦ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ическое обслуживание и ремонт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9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ГУП «Ведомственная охрана объектов промышленности Р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охраны о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5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Мицв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общественного пит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8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Гостиничный комплекс «Восто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гост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79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Типография ВАТ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печа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ервисные компании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Овал 4"/>
          <p:cNvSpPr/>
          <p:nvPr/>
        </p:nvSpPr>
        <p:spPr>
          <a:xfrm>
            <a:off x="3700440" y="2071800"/>
            <a:ext cx="1800360" cy="1800000"/>
          </a:xfrm>
          <a:prstGeom prst="ellipse">
            <a:avLst/>
          </a:prstGeom>
          <a:solidFill>
            <a:srgbClr val="8eb4e3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Cyr"/>
              </a:rPr>
              <a:t>ВАТ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5929200" y="4357800"/>
            <a:ext cx="2714760" cy="576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Cyr"/>
              </a:rPr>
              <a:t>Вузы и 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9"/>
          <p:cNvSpPr/>
          <p:nvPr/>
        </p:nvSpPr>
        <p:spPr>
          <a:xfrm>
            <a:off x="6143760" y="1011240"/>
            <a:ext cx="2714400" cy="576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Cyr"/>
              </a:rPr>
              <a:t>К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1"/>
          <p:cNvSpPr/>
          <p:nvPr/>
        </p:nvSpPr>
        <p:spPr>
          <a:xfrm>
            <a:off x="190440" y="4238640"/>
            <a:ext cx="2714760" cy="711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Инжиниринговые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http://www.vedomosti.ru/img/companies/0/1300.gif"/>
          <p:cNvPicPr/>
          <p:nvPr/>
        </p:nvPicPr>
        <p:blipFill>
          <a:blip r:embed="rId1"/>
          <a:stretch/>
        </p:blipFill>
        <p:spPr>
          <a:xfrm>
            <a:off x="5929200" y="5035680"/>
            <a:ext cx="779400" cy="779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ttp://professorrating.ru/images/university/id1376.jpg"/>
          <p:cNvPicPr/>
          <p:nvPr/>
        </p:nvPicPr>
        <p:blipFill>
          <a:blip r:embed="rId2"/>
          <a:stretch/>
        </p:blipFill>
        <p:spPr>
          <a:xfrm>
            <a:off x="7639200" y="5029200"/>
            <a:ext cx="78552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C:\Users\Andrey\Pictures\11898_small.jpg"/>
          <p:cNvPicPr/>
          <p:nvPr/>
        </p:nvPicPr>
        <p:blipFill>
          <a:blip r:embed="rId3"/>
          <a:stretch/>
        </p:blipFill>
        <p:spPr>
          <a:xfrm>
            <a:off x="6708600" y="5059440"/>
            <a:ext cx="930600" cy="698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"/>
          <p:cNvPicPr/>
          <p:nvPr/>
        </p:nvPicPr>
        <p:blipFill>
          <a:blip r:embed="rId4"/>
          <a:stretch/>
        </p:blipFill>
        <p:spPr>
          <a:xfrm>
            <a:off x="5929200" y="5929200"/>
            <a:ext cx="129564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4" descr="https://fbcdn-sphotos-a-a.akamaihd.net/hphotos-ak-ash3/t1/554778_300821380003058_409544395_n.jpg"/>
          <p:cNvPicPr/>
          <p:nvPr/>
        </p:nvPicPr>
        <p:blipFill>
          <a:blip r:embed="rId5"/>
          <a:stretch/>
        </p:blipFill>
        <p:spPr>
          <a:xfrm>
            <a:off x="2143080" y="5072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35" descr="http://rudocs.exdat.com/pars_docs/tw_refs/280/279018/279018_html_m2983f57e.png"/>
          <p:cNvPicPr/>
          <p:nvPr/>
        </p:nvPicPr>
        <p:blipFill>
          <a:blip r:embed="rId6"/>
          <a:stretch/>
        </p:blipFill>
        <p:spPr>
          <a:xfrm>
            <a:off x="928800" y="6286680"/>
            <a:ext cx="1674720" cy="27288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9" descr="Самолет"/>
          <p:cNvPicPr/>
          <p:nvPr/>
        </p:nvPicPr>
        <p:blipFill>
          <a:blip r:embed="rId7"/>
          <a:srcRect l="17859" t="16667" r="32146" b="33333"/>
          <a:stretch/>
        </p:blipFill>
        <p:spPr>
          <a:xfrm>
            <a:off x="7429680" y="5765760"/>
            <a:ext cx="1143000" cy="942840"/>
          </a:xfrm>
          <a:prstGeom prst="rect">
            <a:avLst/>
          </a:prstGeom>
          <a:ln w="0">
            <a:noFill/>
          </a:ln>
        </p:spPr>
      </p:pic>
      <p:sp>
        <p:nvSpPr>
          <p:cNvPr id="228" name="Стрелка вниз 29"/>
          <p:cNvSpPr/>
          <p:nvPr/>
        </p:nvSpPr>
        <p:spPr>
          <a:xfrm rot="13503600">
            <a:off x="3100680" y="3519720"/>
            <a:ext cx="38592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26"/>
          <p:cNvSpPr/>
          <p:nvPr/>
        </p:nvSpPr>
        <p:spPr>
          <a:xfrm>
            <a:off x="285840" y="1071720"/>
            <a:ext cx="2714400" cy="5767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Cyr"/>
              </a:rPr>
              <a:t>Корпо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трелка вниз 27"/>
          <p:cNvSpPr/>
          <p:nvPr/>
        </p:nvSpPr>
        <p:spPr>
          <a:xfrm rot="8183400">
            <a:off x="5400000" y="3696840"/>
            <a:ext cx="385560" cy="64764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1" descr=""/>
          <p:cNvPicPr/>
          <p:nvPr/>
        </p:nvPicPr>
        <p:blipFill>
          <a:blip r:embed="rId8"/>
          <a:stretch/>
        </p:blipFill>
        <p:spPr>
          <a:xfrm>
            <a:off x="6197760" y="1730520"/>
            <a:ext cx="822240" cy="615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"/>
          <p:cNvPicPr/>
          <p:nvPr/>
        </p:nvPicPr>
        <p:blipFill>
          <a:blip r:embed="rId9"/>
          <a:stretch/>
        </p:blipFill>
        <p:spPr>
          <a:xfrm>
            <a:off x="7327800" y="1762200"/>
            <a:ext cx="658800" cy="6332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"/>
          <p:cNvPicPr/>
          <p:nvPr/>
        </p:nvPicPr>
        <p:blipFill>
          <a:blip r:embed="rId10"/>
          <a:stretch/>
        </p:blipFill>
        <p:spPr>
          <a:xfrm>
            <a:off x="8143920" y="1811160"/>
            <a:ext cx="71424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6" descr=""/>
          <p:cNvPicPr/>
          <p:nvPr/>
        </p:nvPicPr>
        <p:blipFill>
          <a:blip r:embed="rId11"/>
          <a:stretch/>
        </p:blipFill>
        <p:spPr>
          <a:xfrm>
            <a:off x="6089760" y="2565360"/>
            <a:ext cx="1038240" cy="7794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"/>
          <p:cNvPicPr/>
          <p:nvPr/>
        </p:nvPicPr>
        <p:blipFill>
          <a:blip r:embed="rId12"/>
          <a:stretch/>
        </p:blipFill>
        <p:spPr>
          <a:xfrm>
            <a:off x="7265880" y="2571840"/>
            <a:ext cx="1592280" cy="6541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5" descr="logo.gif"/>
          <p:cNvPicPr/>
          <p:nvPr/>
        </p:nvPicPr>
        <p:blipFill>
          <a:blip r:embed="rId13"/>
          <a:srcRect l="0" t="36078" r="0" b="0"/>
          <a:stretch/>
        </p:blipFill>
        <p:spPr>
          <a:xfrm>
            <a:off x="344520" y="1857240"/>
            <a:ext cx="1989000" cy="414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5" descr="F:\ОДК.jpg"/>
          <p:cNvPicPr/>
          <p:nvPr/>
        </p:nvPicPr>
        <p:blipFill>
          <a:blip r:embed="rId14"/>
          <a:stretch/>
        </p:blipFill>
        <p:spPr>
          <a:xfrm>
            <a:off x="642960" y="2286000"/>
            <a:ext cx="1785960" cy="601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15"/>
          <a:srcRect l="-4107" t="0" r="932" b="8751"/>
          <a:stretch/>
        </p:blipFill>
        <p:spPr>
          <a:xfrm>
            <a:off x="142920" y="5072040"/>
            <a:ext cx="1785960" cy="1000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9" name="Picture 27" descr="C:\Documents and Settings\Direkciya\Desktop\вертолеты.jpg"/>
          <p:cNvPicPr/>
          <p:nvPr/>
        </p:nvPicPr>
        <p:blipFill>
          <a:blip r:embed="rId16"/>
          <a:srcRect l="0" t="25019" r="0" b="20005"/>
          <a:stretch/>
        </p:blipFill>
        <p:spPr>
          <a:xfrm>
            <a:off x="558720" y="2928960"/>
            <a:ext cx="1790640" cy="785880"/>
          </a:xfrm>
          <a:prstGeom prst="rect">
            <a:avLst/>
          </a:prstGeom>
          <a:ln w="0">
            <a:noFill/>
          </a:ln>
        </p:spPr>
      </p:pic>
      <p:sp>
        <p:nvSpPr>
          <p:cNvPr id="240" name="Стрелка вниз 32"/>
          <p:cNvSpPr/>
          <p:nvPr/>
        </p:nvSpPr>
        <p:spPr>
          <a:xfrm rot="19042800">
            <a:off x="3206880" y="1720440"/>
            <a:ext cx="385560" cy="64764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33"/>
          <p:cNvSpPr/>
          <p:nvPr/>
        </p:nvSpPr>
        <p:spPr>
          <a:xfrm rot="2647800">
            <a:off x="5538600" y="1711080"/>
            <a:ext cx="385560" cy="64764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dce6f2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1"/>
          <p:cNvSpPr/>
          <p:nvPr/>
        </p:nvSpPr>
        <p:spPr>
          <a:xfrm>
            <a:off x="28440" y="125280"/>
            <a:ext cx="914400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артнеры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Полилиния 4"/>
          <p:cNvSpPr/>
          <p:nvPr/>
        </p:nvSpPr>
        <p:spPr>
          <a:xfrm>
            <a:off x="6448320" y="1663560"/>
            <a:ext cx="468360" cy="206640"/>
          </a:xfrm>
          <a:custGeom>
            <a:avLst/>
            <a:gdLst>
              <a:gd name="textAreaLeft" fmla="*/ 0 w 468360"/>
              <a:gd name="textAreaRight" fmla="*/ 468720 w 4683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467363" h="209840">
                <a:moveTo>
                  <a:pt x="0" y="107477"/>
                </a:moveTo>
                <a:cubicBezTo>
                  <a:pt x="109228" y="107559"/>
                  <a:pt x="236184" y="197347"/>
                  <a:pt x="345412" y="197429"/>
                </a:cubicBezTo>
                <a:cubicBezTo>
                  <a:pt x="412337" y="203949"/>
                  <a:pt x="435418" y="218380"/>
                  <a:pt x="455119" y="202990"/>
                </a:cubicBezTo>
                <a:cubicBezTo>
                  <a:pt x="473831" y="191029"/>
                  <a:pt x="465134" y="141981"/>
                  <a:pt x="466550" y="125664"/>
                </a:cubicBezTo>
                <a:cubicBezTo>
                  <a:pt x="467966" y="109347"/>
                  <a:pt x="462497" y="126033"/>
                  <a:pt x="463618" y="105089"/>
                </a:cubicBezTo>
                <a:cubicBezTo>
                  <a:pt x="463882" y="70059"/>
                  <a:pt x="464147" y="35030"/>
                  <a:pt x="464411" y="0"/>
                </a:cubicBezTo>
                <a:lnTo>
                  <a:pt x="0" y="0"/>
                </a:lnTo>
                <a:lnTo>
                  <a:pt x="0" y="107477"/>
                </a:lnTo>
                <a:close/>
              </a:path>
            </a:pathLst>
          </a:custGeom>
          <a:solidFill>
            <a:srgbClr val="cc0099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олилиния 5"/>
          <p:cNvSpPr/>
          <p:nvPr/>
        </p:nvSpPr>
        <p:spPr>
          <a:xfrm>
            <a:off x="5921280" y="1274760"/>
            <a:ext cx="158760" cy="60480"/>
          </a:xfrm>
          <a:custGeom>
            <a:avLst/>
            <a:gdLst>
              <a:gd name="textAreaLeft" fmla="*/ 0 w 158760"/>
              <a:gd name="textAreaRight" fmla="*/ 159120 w 1587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8650" h="60575">
                <a:moveTo>
                  <a:pt x="0" y="0"/>
                </a:moveTo>
                <a:lnTo>
                  <a:pt x="2884" y="60575"/>
                </a:lnTo>
                <a:lnTo>
                  <a:pt x="66344" y="57691"/>
                </a:lnTo>
                <a:lnTo>
                  <a:pt x="158052" y="56392"/>
                </a:lnTo>
                <a:cubicBezTo>
                  <a:pt x="158251" y="38556"/>
                  <a:pt x="158451" y="20720"/>
                  <a:pt x="158650" y="2884"/>
                </a:cubicBezTo>
                <a:lnTo>
                  <a:pt x="0" y="0"/>
                </a:lnTo>
                <a:close/>
              </a:path>
            </a:pathLst>
          </a:custGeom>
          <a:solidFill>
            <a:srgbClr val="cc00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лилиния 11"/>
          <p:cNvSpPr/>
          <p:nvPr/>
        </p:nvSpPr>
        <p:spPr>
          <a:xfrm>
            <a:off x="2133720" y="4788000"/>
            <a:ext cx="290520" cy="557280"/>
          </a:xfrm>
          <a:custGeom>
            <a:avLst/>
            <a:gdLst>
              <a:gd name="textAreaLeft" fmla="*/ 0 w 290520"/>
              <a:gd name="textAreaRight" fmla="*/ 290880 w 29052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290513" h="557213">
                <a:moveTo>
                  <a:pt x="288131" y="497681"/>
                </a:moveTo>
                <a:lnTo>
                  <a:pt x="147638" y="500063"/>
                </a:lnTo>
                <a:lnTo>
                  <a:pt x="145256" y="557213"/>
                </a:lnTo>
                <a:lnTo>
                  <a:pt x="0" y="557213"/>
                </a:lnTo>
                <a:lnTo>
                  <a:pt x="0" y="497681"/>
                </a:lnTo>
                <a:lnTo>
                  <a:pt x="26194" y="500063"/>
                </a:lnTo>
                <a:lnTo>
                  <a:pt x="26194" y="469106"/>
                </a:lnTo>
                <a:lnTo>
                  <a:pt x="88106" y="469106"/>
                </a:lnTo>
                <a:lnTo>
                  <a:pt x="90488" y="273844"/>
                </a:lnTo>
                <a:lnTo>
                  <a:pt x="45244" y="273844"/>
                </a:lnTo>
                <a:lnTo>
                  <a:pt x="45244" y="2381"/>
                </a:lnTo>
                <a:lnTo>
                  <a:pt x="88106" y="0"/>
                </a:lnTo>
                <a:lnTo>
                  <a:pt x="88106" y="80963"/>
                </a:lnTo>
                <a:lnTo>
                  <a:pt x="290513" y="80963"/>
                </a:lnTo>
                <a:lnTo>
                  <a:pt x="288131" y="4976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2"/>
          <p:cNvSpPr/>
          <p:nvPr/>
        </p:nvSpPr>
        <p:spPr>
          <a:xfrm>
            <a:off x="4468680" y="5421240"/>
            <a:ext cx="176400" cy="393840"/>
          </a:xfrm>
          <a:custGeom>
            <a:avLst/>
            <a:gdLst>
              <a:gd name="textAreaLeft" fmla="*/ 0 w 176400"/>
              <a:gd name="textAreaRight" fmla="*/ 176760 w 1764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176212" h="395287">
                <a:moveTo>
                  <a:pt x="0" y="392906"/>
                </a:moveTo>
                <a:lnTo>
                  <a:pt x="176212" y="395287"/>
                </a:lnTo>
                <a:cubicBezTo>
                  <a:pt x="175418" y="277812"/>
                  <a:pt x="174625" y="160337"/>
                  <a:pt x="173831" y="42862"/>
                </a:cubicBezTo>
                <a:lnTo>
                  <a:pt x="33337" y="45244"/>
                </a:lnTo>
                <a:lnTo>
                  <a:pt x="33337" y="0"/>
                </a:lnTo>
                <a:lnTo>
                  <a:pt x="0" y="0"/>
                </a:lnTo>
                <a:lnTo>
                  <a:pt x="0" y="392906"/>
                </a:lnTo>
                <a:close/>
              </a:path>
            </a:pathLst>
          </a:cu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олилиния 13"/>
          <p:cNvSpPr/>
          <p:nvPr/>
        </p:nvSpPr>
        <p:spPr>
          <a:xfrm>
            <a:off x="4732200" y="5442120"/>
            <a:ext cx="219240" cy="460080"/>
          </a:xfrm>
          <a:custGeom>
            <a:avLst/>
            <a:gdLst>
              <a:gd name="textAreaLeft" fmla="*/ 0 w 219240"/>
              <a:gd name="textAreaRight" fmla="*/ 219600 w 219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219075" h="459582">
                <a:moveTo>
                  <a:pt x="66675" y="459582"/>
                </a:moveTo>
                <a:lnTo>
                  <a:pt x="176212" y="457200"/>
                </a:lnTo>
                <a:cubicBezTo>
                  <a:pt x="175418" y="364331"/>
                  <a:pt x="174625" y="271463"/>
                  <a:pt x="173831" y="178594"/>
                </a:cubicBezTo>
                <a:lnTo>
                  <a:pt x="219075" y="178594"/>
                </a:lnTo>
                <a:cubicBezTo>
                  <a:pt x="218281" y="119063"/>
                  <a:pt x="217488" y="59531"/>
                  <a:pt x="216694" y="0"/>
                </a:cubicBezTo>
                <a:lnTo>
                  <a:pt x="171450" y="0"/>
                </a:lnTo>
                <a:lnTo>
                  <a:pt x="159544" y="14288"/>
                </a:lnTo>
                <a:lnTo>
                  <a:pt x="76200" y="16669"/>
                </a:lnTo>
                <a:lnTo>
                  <a:pt x="76200" y="4763"/>
                </a:lnTo>
                <a:lnTo>
                  <a:pt x="0" y="4763"/>
                </a:lnTo>
                <a:lnTo>
                  <a:pt x="0" y="183357"/>
                </a:lnTo>
                <a:lnTo>
                  <a:pt x="66675" y="183357"/>
                </a:lnTo>
                <a:lnTo>
                  <a:pt x="66675" y="45958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14"/>
          <p:cNvSpPr/>
          <p:nvPr/>
        </p:nvSpPr>
        <p:spPr>
          <a:xfrm>
            <a:off x="4780080" y="5997600"/>
            <a:ext cx="136440" cy="52200"/>
          </a:xfrm>
          <a:custGeom>
            <a:avLst/>
            <a:gdLst>
              <a:gd name="textAreaLeft" fmla="*/ 0 w 136440"/>
              <a:gd name="textAreaRight" fmla="*/ 136800 w 1364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38112" h="52387">
                <a:moveTo>
                  <a:pt x="138112" y="50006"/>
                </a:moveTo>
                <a:lnTo>
                  <a:pt x="135731" y="0"/>
                </a:lnTo>
                <a:lnTo>
                  <a:pt x="76200" y="2381"/>
                </a:lnTo>
                <a:lnTo>
                  <a:pt x="76200" y="21431"/>
                </a:lnTo>
                <a:lnTo>
                  <a:pt x="0" y="21431"/>
                </a:lnTo>
                <a:lnTo>
                  <a:pt x="0" y="52387"/>
                </a:lnTo>
                <a:lnTo>
                  <a:pt x="138112" y="500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15"/>
          <p:cNvSpPr/>
          <p:nvPr/>
        </p:nvSpPr>
        <p:spPr>
          <a:xfrm>
            <a:off x="5410080" y="5440320"/>
            <a:ext cx="351000" cy="257040"/>
          </a:xfrm>
          <a:custGeom>
            <a:avLst/>
            <a:gdLst>
              <a:gd name="textAreaLeft" fmla="*/ 0 w 351000"/>
              <a:gd name="textAreaRight" fmla="*/ 351360 w 3510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50044" h="257175">
                <a:moveTo>
                  <a:pt x="71438" y="95250"/>
                </a:moveTo>
                <a:lnTo>
                  <a:pt x="71438" y="2381"/>
                </a:lnTo>
                <a:lnTo>
                  <a:pt x="2381" y="0"/>
                </a:lnTo>
                <a:cubicBezTo>
                  <a:pt x="1587" y="42069"/>
                  <a:pt x="794" y="84137"/>
                  <a:pt x="0" y="126206"/>
                </a:cubicBezTo>
                <a:lnTo>
                  <a:pt x="26194" y="123825"/>
                </a:lnTo>
                <a:lnTo>
                  <a:pt x="26194" y="230981"/>
                </a:lnTo>
                <a:lnTo>
                  <a:pt x="57150" y="230981"/>
                </a:lnTo>
                <a:lnTo>
                  <a:pt x="57150" y="257175"/>
                </a:lnTo>
                <a:lnTo>
                  <a:pt x="290513" y="254794"/>
                </a:lnTo>
                <a:lnTo>
                  <a:pt x="288131" y="230981"/>
                </a:lnTo>
                <a:lnTo>
                  <a:pt x="350044" y="230981"/>
                </a:lnTo>
                <a:cubicBezTo>
                  <a:pt x="349250" y="196850"/>
                  <a:pt x="348457" y="162719"/>
                  <a:pt x="347663" y="128588"/>
                </a:cubicBezTo>
                <a:lnTo>
                  <a:pt x="316706" y="130969"/>
                </a:lnTo>
                <a:lnTo>
                  <a:pt x="316706" y="92869"/>
                </a:lnTo>
                <a:lnTo>
                  <a:pt x="71438" y="95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16"/>
          <p:cNvSpPr/>
          <p:nvPr/>
        </p:nvSpPr>
        <p:spPr>
          <a:xfrm>
            <a:off x="5459400" y="5106960"/>
            <a:ext cx="114480" cy="252360"/>
          </a:xfrm>
          <a:custGeom>
            <a:avLst/>
            <a:gdLst>
              <a:gd name="textAreaLeft" fmla="*/ 0 w 114480"/>
              <a:gd name="textAreaRight" fmla="*/ 114840 w 1144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14300" h="252413">
                <a:moveTo>
                  <a:pt x="114300" y="252413"/>
                </a:moveTo>
                <a:lnTo>
                  <a:pt x="114300" y="97631"/>
                </a:lnTo>
                <a:lnTo>
                  <a:pt x="95250" y="97631"/>
                </a:lnTo>
                <a:lnTo>
                  <a:pt x="92869" y="73819"/>
                </a:lnTo>
                <a:lnTo>
                  <a:pt x="64294" y="71438"/>
                </a:lnTo>
                <a:cubicBezTo>
                  <a:pt x="63500" y="47625"/>
                  <a:pt x="62707" y="23813"/>
                  <a:pt x="61913" y="0"/>
                </a:cubicBezTo>
                <a:lnTo>
                  <a:pt x="11907" y="2381"/>
                </a:lnTo>
                <a:lnTo>
                  <a:pt x="11907" y="104775"/>
                </a:lnTo>
                <a:lnTo>
                  <a:pt x="2382" y="107156"/>
                </a:lnTo>
                <a:lnTo>
                  <a:pt x="0" y="252413"/>
                </a:lnTo>
                <a:lnTo>
                  <a:pt x="114300" y="25241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17"/>
          <p:cNvSpPr/>
          <p:nvPr/>
        </p:nvSpPr>
        <p:spPr>
          <a:xfrm>
            <a:off x="5641920" y="4308480"/>
            <a:ext cx="154080" cy="237960"/>
          </a:xfrm>
          <a:custGeom>
            <a:avLst/>
            <a:gdLst>
              <a:gd name="textAreaLeft" fmla="*/ 0 w 154080"/>
              <a:gd name="textAreaRight" fmla="*/ 154080 w 1540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54781" h="238125">
                <a:moveTo>
                  <a:pt x="154781" y="45244"/>
                </a:moveTo>
                <a:lnTo>
                  <a:pt x="130969" y="45244"/>
                </a:lnTo>
                <a:lnTo>
                  <a:pt x="128587" y="2381"/>
                </a:lnTo>
                <a:lnTo>
                  <a:pt x="76200" y="0"/>
                </a:lnTo>
                <a:lnTo>
                  <a:pt x="76200" y="45244"/>
                </a:lnTo>
                <a:lnTo>
                  <a:pt x="21431" y="45244"/>
                </a:lnTo>
                <a:lnTo>
                  <a:pt x="21431" y="119063"/>
                </a:lnTo>
                <a:lnTo>
                  <a:pt x="0" y="119063"/>
                </a:lnTo>
                <a:cubicBezTo>
                  <a:pt x="794" y="143669"/>
                  <a:pt x="1587" y="168275"/>
                  <a:pt x="2381" y="192881"/>
                </a:cubicBezTo>
                <a:lnTo>
                  <a:pt x="26194" y="192881"/>
                </a:lnTo>
                <a:lnTo>
                  <a:pt x="26194" y="219075"/>
                </a:lnTo>
                <a:lnTo>
                  <a:pt x="64294" y="219075"/>
                </a:lnTo>
                <a:lnTo>
                  <a:pt x="66675" y="238125"/>
                </a:lnTo>
                <a:lnTo>
                  <a:pt x="154781" y="238125"/>
                </a:lnTo>
                <a:lnTo>
                  <a:pt x="154781" y="45244"/>
                </a:lnTo>
                <a:close/>
              </a:path>
            </a:pathLst>
          </a:cu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22"/>
          <p:cNvSpPr/>
          <p:nvPr/>
        </p:nvSpPr>
        <p:spPr>
          <a:xfrm>
            <a:off x="3897360" y="4157640"/>
            <a:ext cx="63360" cy="276120"/>
          </a:xfrm>
          <a:custGeom>
            <a:avLst/>
            <a:gdLst>
              <a:gd name="textAreaLeft" fmla="*/ 0 w 63360"/>
              <a:gd name="textAreaRight" fmla="*/ 63720 w 633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64294" h="276225">
                <a:moveTo>
                  <a:pt x="0" y="0"/>
                </a:moveTo>
                <a:cubicBezTo>
                  <a:pt x="794" y="91281"/>
                  <a:pt x="1587" y="182562"/>
                  <a:pt x="2381" y="273843"/>
                </a:cubicBezTo>
                <a:lnTo>
                  <a:pt x="64294" y="276225"/>
                </a:lnTo>
                <a:lnTo>
                  <a:pt x="6429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24"/>
          <p:cNvSpPr/>
          <p:nvPr/>
        </p:nvSpPr>
        <p:spPr>
          <a:xfrm>
            <a:off x="2627280" y="3995640"/>
            <a:ext cx="138240" cy="200160"/>
          </a:xfrm>
          <a:custGeom>
            <a:avLst/>
            <a:gdLst>
              <a:gd name="textAreaLeft" fmla="*/ 0 w 138240"/>
              <a:gd name="textAreaRight" fmla="*/ 138600 w 1382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38113" h="200025">
                <a:moveTo>
                  <a:pt x="138113" y="2382"/>
                </a:moveTo>
                <a:lnTo>
                  <a:pt x="0" y="0"/>
                </a:lnTo>
                <a:cubicBezTo>
                  <a:pt x="794" y="66675"/>
                  <a:pt x="1587" y="133350"/>
                  <a:pt x="2381" y="200025"/>
                </a:cubicBezTo>
                <a:lnTo>
                  <a:pt x="135731" y="200025"/>
                </a:lnTo>
                <a:lnTo>
                  <a:pt x="138113" y="169069"/>
                </a:lnTo>
                <a:lnTo>
                  <a:pt x="33338" y="166688"/>
                </a:lnTo>
                <a:cubicBezTo>
                  <a:pt x="34132" y="138907"/>
                  <a:pt x="34925" y="111125"/>
                  <a:pt x="35719" y="83344"/>
                </a:cubicBezTo>
                <a:lnTo>
                  <a:pt x="138113" y="83344"/>
                </a:lnTo>
                <a:lnTo>
                  <a:pt x="138113" y="2382"/>
                </a:lnTo>
                <a:close/>
              </a:path>
            </a:pathLst>
          </a:cu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лилиния 25"/>
          <p:cNvSpPr/>
          <p:nvPr/>
        </p:nvSpPr>
        <p:spPr>
          <a:xfrm>
            <a:off x="3218040" y="4559400"/>
            <a:ext cx="1440" cy="28440"/>
          </a:xfrm>
          <a:custGeom>
            <a:avLst/>
            <a:gdLst>
              <a:gd name="textAreaLeft" fmla="*/ 0 w 1440"/>
              <a:gd name="textAreaRight" fmla="*/ 1800 w 1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2381" h="28575">
                <a:moveTo>
                  <a:pt x="0" y="0"/>
                </a:moveTo>
                <a:lnTo>
                  <a:pt x="2381" y="28575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26"/>
          <p:cNvSpPr/>
          <p:nvPr/>
        </p:nvSpPr>
        <p:spPr>
          <a:xfrm>
            <a:off x="3205080" y="4559400"/>
            <a:ext cx="955800" cy="180720"/>
          </a:xfrm>
          <a:custGeom>
            <a:avLst/>
            <a:gdLst>
              <a:gd name="textAreaLeft" fmla="*/ 0 w 955800"/>
              <a:gd name="textAreaRight" fmla="*/ 956160 w 9558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954881" h="180975">
                <a:moveTo>
                  <a:pt x="0" y="178594"/>
                </a:moveTo>
                <a:lnTo>
                  <a:pt x="954881" y="180975"/>
                </a:lnTo>
                <a:lnTo>
                  <a:pt x="945356" y="157163"/>
                </a:lnTo>
                <a:cubicBezTo>
                  <a:pt x="946150" y="115094"/>
                  <a:pt x="946943" y="73025"/>
                  <a:pt x="947737" y="30956"/>
                </a:cubicBezTo>
                <a:lnTo>
                  <a:pt x="164306" y="33338"/>
                </a:lnTo>
                <a:lnTo>
                  <a:pt x="164306" y="2381"/>
                </a:lnTo>
                <a:lnTo>
                  <a:pt x="11906" y="0"/>
                </a:lnTo>
                <a:lnTo>
                  <a:pt x="11906" y="28575"/>
                </a:lnTo>
                <a:lnTo>
                  <a:pt x="0" y="30956"/>
                </a:lnTo>
                <a:lnTo>
                  <a:pt x="0" y="1785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27"/>
          <p:cNvSpPr/>
          <p:nvPr/>
        </p:nvSpPr>
        <p:spPr>
          <a:xfrm>
            <a:off x="5608800" y="4730760"/>
            <a:ext cx="942840" cy="184320"/>
          </a:xfrm>
          <a:custGeom>
            <a:avLst/>
            <a:gdLst>
              <a:gd name="textAreaLeft" fmla="*/ 0 w 942840"/>
              <a:gd name="textAreaRight" fmla="*/ 943200 w 9428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942975" h="183356">
                <a:moveTo>
                  <a:pt x="942975" y="14287"/>
                </a:moveTo>
                <a:lnTo>
                  <a:pt x="942975" y="180975"/>
                </a:lnTo>
                <a:lnTo>
                  <a:pt x="902494" y="180975"/>
                </a:lnTo>
                <a:lnTo>
                  <a:pt x="902494" y="161925"/>
                </a:lnTo>
                <a:lnTo>
                  <a:pt x="611981" y="159543"/>
                </a:lnTo>
                <a:lnTo>
                  <a:pt x="611981" y="183356"/>
                </a:lnTo>
                <a:lnTo>
                  <a:pt x="40481" y="180975"/>
                </a:lnTo>
                <a:lnTo>
                  <a:pt x="40481" y="171450"/>
                </a:lnTo>
                <a:lnTo>
                  <a:pt x="0" y="169068"/>
                </a:lnTo>
                <a:lnTo>
                  <a:pt x="0" y="0"/>
                </a:lnTo>
                <a:lnTo>
                  <a:pt x="40481" y="0"/>
                </a:lnTo>
                <a:lnTo>
                  <a:pt x="42862" y="19050"/>
                </a:lnTo>
                <a:lnTo>
                  <a:pt x="609600" y="16668"/>
                </a:lnTo>
                <a:lnTo>
                  <a:pt x="609600" y="0"/>
                </a:lnTo>
                <a:lnTo>
                  <a:pt x="635794" y="0"/>
                </a:lnTo>
                <a:lnTo>
                  <a:pt x="635794" y="16668"/>
                </a:lnTo>
                <a:lnTo>
                  <a:pt x="942975" y="14287"/>
                </a:lnTo>
                <a:close/>
              </a:path>
            </a:pathLst>
          </a:cu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олилиния 28"/>
          <p:cNvSpPr/>
          <p:nvPr/>
        </p:nvSpPr>
        <p:spPr>
          <a:xfrm>
            <a:off x="5805360" y="4124160"/>
            <a:ext cx="866880" cy="435240"/>
          </a:xfrm>
          <a:custGeom>
            <a:avLst/>
            <a:gdLst>
              <a:gd name="textAreaLeft" fmla="*/ 0 w 866880"/>
              <a:gd name="textAreaRight" fmla="*/ 867240 w 86688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866775" h="435768">
                <a:moveTo>
                  <a:pt x="864394" y="421481"/>
                </a:moveTo>
                <a:cubicBezTo>
                  <a:pt x="865188" y="370681"/>
                  <a:pt x="865981" y="319881"/>
                  <a:pt x="866775" y="269081"/>
                </a:cubicBezTo>
                <a:lnTo>
                  <a:pt x="757238" y="269081"/>
                </a:lnTo>
                <a:lnTo>
                  <a:pt x="757238" y="7143"/>
                </a:lnTo>
                <a:lnTo>
                  <a:pt x="721519" y="7143"/>
                </a:lnTo>
                <a:lnTo>
                  <a:pt x="721519" y="30956"/>
                </a:lnTo>
                <a:lnTo>
                  <a:pt x="657225" y="33337"/>
                </a:lnTo>
                <a:lnTo>
                  <a:pt x="657225" y="2381"/>
                </a:lnTo>
                <a:lnTo>
                  <a:pt x="476250" y="2381"/>
                </a:lnTo>
                <a:lnTo>
                  <a:pt x="476250" y="35718"/>
                </a:lnTo>
                <a:lnTo>
                  <a:pt x="304800" y="35718"/>
                </a:lnTo>
                <a:lnTo>
                  <a:pt x="304800" y="0"/>
                </a:lnTo>
                <a:lnTo>
                  <a:pt x="242888" y="2381"/>
                </a:lnTo>
                <a:lnTo>
                  <a:pt x="242888" y="54768"/>
                </a:lnTo>
                <a:lnTo>
                  <a:pt x="202407" y="54768"/>
                </a:lnTo>
                <a:lnTo>
                  <a:pt x="200025" y="40481"/>
                </a:lnTo>
                <a:lnTo>
                  <a:pt x="66675" y="40481"/>
                </a:lnTo>
                <a:lnTo>
                  <a:pt x="66675" y="54768"/>
                </a:lnTo>
                <a:lnTo>
                  <a:pt x="0" y="52387"/>
                </a:lnTo>
                <a:lnTo>
                  <a:pt x="0" y="423862"/>
                </a:lnTo>
                <a:lnTo>
                  <a:pt x="109538" y="423862"/>
                </a:lnTo>
                <a:lnTo>
                  <a:pt x="111919" y="407193"/>
                </a:lnTo>
                <a:lnTo>
                  <a:pt x="333375" y="402431"/>
                </a:lnTo>
                <a:lnTo>
                  <a:pt x="335757" y="435768"/>
                </a:lnTo>
                <a:lnTo>
                  <a:pt x="404813" y="435768"/>
                </a:lnTo>
                <a:lnTo>
                  <a:pt x="404813" y="409575"/>
                </a:lnTo>
                <a:lnTo>
                  <a:pt x="683419" y="407193"/>
                </a:lnTo>
                <a:lnTo>
                  <a:pt x="685800" y="426243"/>
                </a:lnTo>
                <a:lnTo>
                  <a:pt x="864394" y="421481"/>
                </a:lnTo>
                <a:close/>
              </a:path>
            </a:pathLst>
          </a:cu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39"/>
          <p:cNvSpPr/>
          <p:nvPr/>
        </p:nvSpPr>
        <p:spPr>
          <a:xfrm flipH="1">
            <a:off x="5989680" y="1133640"/>
            <a:ext cx="46080" cy="1825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13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азвитие проекта Технопарк на площадях ОАО «ВА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олилиния 38"/>
          <p:cNvSpPr/>
          <p:nvPr/>
        </p:nvSpPr>
        <p:spPr>
          <a:xfrm>
            <a:off x="2808360" y="5197320"/>
            <a:ext cx="1857240" cy="8431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843120"/>
              <a:gd name="textAreaBottom" fmla="*/ 843480 h 843120"/>
            </a:gdLst>
            <a:ahLst/>
            <a:rect l="textAreaLeft" t="textAreaTop" r="textAreaRight" b="textAreaBottom"/>
            <a:pathLst>
              <a:path w="1857375" h="842963">
                <a:moveTo>
                  <a:pt x="2381" y="683419"/>
                </a:moveTo>
                <a:lnTo>
                  <a:pt x="90487" y="683419"/>
                </a:lnTo>
                <a:lnTo>
                  <a:pt x="90487" y="302419"/>
                </a:lnTo>
                <a:lnTo>
                  <a:pt x="426244" y="304800"/>
                </a:lnTo>
                <a:cubicBezTo>
                  <a:pt x="427038" y="350044"/>
                  <a:pt x="427831" y="395287"/>
                  <a:pt x="428625" y="440531"/>
                </a:cubicBezTo>
                <a:lnTo>
                  <a:pt x="1004887" y="438150"/>
                </a:lnTo>
                <a:lnTo>
                  <a:pt x="1004887" y="273844"/>
                </a:lnTo>
                <a:lnTo>
                  <a:pt x="692944" y="271463"/>
                </a:lnTo>
                <a:lnTo>
                  <a:pt x="692944" y="0"/>
                </a:lnTo>
                <a:lnTo>
                  <a:pt x="1383506" y="2381"/>
                </a:lnTo>
                <a:lnTo>
                  <a:pt x="1383506" y="235744"/>
                </a:lnTo>
                <a:lnTo>
                  <a:pt x="1462087" y="233363"/>
                </a:lnTo>
                <a:lnTo>
                  <a:pt x="1462087" y="652463"/>
                </a:lnTo>
                <a:lnTo>
                  <a:pt x="1857375" y="652463"/>
                </a:lnTo>
                <a:lnTo>
                  <a:pt x="1857375" y="840581"/>
                </a:lnTo>
                <a:lnTo>
                  <a:pt x="0" y="842963"/>
                </a:lnTo>
                <a:cubicBezTo>
                  <a:pt x="794" y="788988"/>
                  <a:pt x="1587" y="735013"/>
                  <a:pt x="2381" y="68341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40"/>
          <p:cNvSpPr/>
          <p:nvPr/>
        </p:nvSpPr>
        <p:spPr>
          <a:xfrm>
            <a:off x="5796000" y="5172120"/>
            <a:ext cx="887400" cy="21600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лилиния 51"/>
          <p:cNvSpPr/>
          <p:nvPr/>
        </p:nvSpPr>
        <p:spPr>
          <a:xfrm>
            <a:off x="2619360" y="4194000"/>
            <a:ext cx="171360" cy="419400"/>
          </a:xfrm>
          <a:custGeom>
            <a:avLst/>
            <a:gdLst>
              <a:gd name="textAreaLeft" fmla="*/ 0 w 171360"/>
              <a:gd name="textAreaRight" fmla="*/ 171720 w 171360"/>
              <a:gd name="textAreaTop" fmla="*/ 0 h 419400"/>
              <a:gd name="textAreaBottom" fmla="*/ 419760 h 419400"/>
            </a:gdLst>
            <a:ahLst/>
            <a:rect l="textAreaLeft" t="textAreaTop" r="textAreaRight" b="textAreaBottom"/>
            <a:pathLst>
              <a:path w="171450" h="417783">
                <a:moveTo>
                  <a:pt x="4763" y="0"/>
                </a:moveTo>
                <a:lnTo>
                  <a:pt x="145257" y="0"/>
                </a:lnTo>
                <a:lnTo>
                  <a:pt x="142875" y="35719"/>
                </a:lnTo>
                <a:lnTo>
                  <a:pt x="40482" y="35719"/>
                </a:lnTo>
                <a:cubicBezTo>
                  <a:pt x="41276" y="73819"/>
                  <a:pt x="42069" y="111919"/>
                  <a:pt x="42863" y="150019"/>
                </a:cubicBezTo>
                <a:lnTo>
                  <a:pt x="142875" y="147638"/>
                </a:lnTo>
                <a:lnTo>
                  <a:pt x="145257" y="207169"/>
                </a:lnTo>
                <a:lnTo>
                  <a:pt x="69057" y="209550"/>
                </a:lnTo>
                <a:lnTo>
                  <a:pt x="69057" y="411956"/>
                </a:lnTo>
                <a:lnTo>
                  <a:pt x="171450" y="411956"/>
                </a:lnTo>
                <a:lnTo>
                  <a:pt x="11845" y="410799"/>
                </a:lnTo>
                <a:lnTo>
                  <a:pt x="7144" y="410798"/>
                </a:lnTo>
                <a:cubicBezTo>
                  <a:pt x="6350" y="390160"/>
                  <a:pt x="5557" y="432594"/>
                  <a:pt x="4763" y="411956"/>
                </a:cubicBezTo>
                <a:lnTo>
                  <a:pt x="28575" y="411956"/>
                </a:lnTo>
                <a:lnTo>
                  <a:pt x="28575" y="369094"/>
                </a:lnTo>
                <a:lnTo>
                  <a:pt x="7144" y="366713"/>
                </a:lnTo>
                <a:cubicBezTo>
                  <a:pt x="7938" y="324644"/>
                  <a:pt x="8731" y="282575"/>
                  <a:pt x="9525" y="240506"/>
                </a:cubicBezTo>
                <a:lnTo>
                  <a:pt x="0" y="238125"/>
                </a:lnTo>
                <a:lnTo>
                  <a:pt x="0" y="159544"/>
                </a:lnTo>
                <a:lnTo>
                  <a:pt x="9525" y="157163"/>
                </a:lnTo>
                <a:cubicBezTo>
                  <a:pt x="8731" y="104775"/>
                  <a:pt x="7938" y="52388"/>
                  <a:pt x="4763" y="0"/>
                </a:cubicBezTo>
                <a:close/>
              </a:path>
            </a:pathLst>
          </a:custGeom>
          <a:solidFill>
            <a:srgbClr val="00ff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олилиния 53"/>
          <p:cNvSpPr/>
          <p:nvPr/>
        </p:nvSpPr>
        <p:spPr>
          <a:xfrm>
            <a:off x="5465880" y="3576600"/>
            <a:ext cx="234720" cy="390600"/>
          </a:xfrm>
          <a:custGeom>
            <a:avLst/>
            <a:gdLst>
              <a:gd name="textAreaLeft" fmla="*/ 0 w 234720"/>
              <a:gd name="textAreaRight" fmla="*/ 235080 w 2347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33363" h="390525">
                <a:moveTo>
                  <a:pt x="230981" y="0"/>
                </a:moveTo>
                <a:lnTo>
                  <a:pt x="233363" y="390525"/>
                </a:lnTo>
                <a:lnTo>
                  <a:pt x="80963" y="388143"/>
                </a:lnTo>
                <a:lnTo>
                  <a:pt x="80963" y="216693"/>
                </a:lnTo>
                <a:lnTo>
                  <a:pt x="19050" y="211931"/>
                </a:lnTo>
                <a:lnTo>
                  <a:pt x="19050" y="157162"/>
                </a:lnTo>
                <a:lnTo>
                  <a:pt x="78581" y="154781"/>
                </a:lnTo>
                <a:lnTo>
                  <a:pt x="78581" y="83343"/>
                </a:lnTo>
                <a:lnTo>
                  <a:pt x="0" y="80962"/>
                </a:lnTo>
                <a:lnTo>
                  <a:pt x="0" y="9525"/>
                </a:lnTo>
                <a:lnTo>
                  <a:pt x="83344" y="9525"/>
                </a:lnTo>
                <a:lnTo>
                  <a:pt x="83344" y="0"/>
                </a:lnTo>
                <a:lnTo>
                  <a:pt x="230981" y="0"/>
                </a:lnTo>
                <a:close/>
              </a:path>
            </a:pathLst>
          </a:custGeom>
          <a:solidFill>
            <a:srgbClr val="00b0f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олилиния 64"/>
          <p:cNvSpPr/>
          <p:nvPr/>
        </p:nvSpPr>
        <p:spPr>
          <a:xfrm>
            <a:off x="2443320" y="1158840"/>
            <a:ext cx="6559560" cy="4826160"/>
          </a:xfrm>
          <a:custGeom>
            <a:avLst/>
            <a:gdLst/>
            <a:ahLst/>
            <a:rect l="l" t="t" r="r" b="b"/>
            <a:pathLst>
              <a:path w="6559996" h="4825712">
                <a:moveTo>
                  <a:pt x="6559996" y="217200"/>
                </a:moveTo>
                <a:lnTo>
                  <a:pt x="6559996" y="2233424"/>
                </a:lnTo>
                <a:lnTo>
                  <a:pt x="6559996" y="4825712"/>
                </a:lnTo>
                <a:lnTo>
                  <a:pt x="4615780" y="4825712"/>
                </a:lnTo>
                <a:lnTo>
                  <a:pt x="4615780" y="4393664"/>
                </a:lnTo>
                <a:lnTo>
                  <a:pt x="4255740" y="4393664"/>
                </a:lnTo>
                <a:lnTo>
                  <a:pt x="4255740" y="2737480"/>
                </a:lnTo>
                <a:lnTo>
                  <a:pt x="3679676" y="2737480"/>
                </a:lnTo>
                <a:lnTo>
                  <a:pt x="3657600" y="2270760"/>
                </a:lnTo>
                <a:lnTo>
                  <a:pt x="1087388" y="2233424"/>
                </a:lnTo>
                <a:lnTo>
                  <a:pt x="583332" y="2233424"/>
                </a:lnTo>
                <a:lnTo>
                  <a:pt x="583332" y="2809488"/>
                </a:lnTo>
                <a:lnTo>
                  <a:pt x="7268" y="2809488"/>
                </a:lnTo>
                <a:lnTo>
                  <a:pt x="0" y="2598420"/>
                </a:lnTo>
                <a:lnTo>
                  <a:pt x="30480" y="1402080"/>
                </a:lnTo>
                <a:lnTo>
                  <a:pt x="1965960" y="1394460"/>
                </a:lnTo>
                <a:lnTo>
                  <a:pt x="2110740" y="914400"/>
                </a:lnTo>
                <a:lnTo>
                  <a:pt x="2118360" y="327660"/>
                </a:lnTo>
                <a:lnTo>
                  <a:pt x="2415540" y="327660"/>
                </a:lnTo>
                <a:lnTo>
                  <a:pt x="2438400" y="236220"/>
                </a:lnTo>
                <a:lnTo>
                  <a:pt x="2766060" y="236220"/>
                </a:lnTo>
                <a:lnTo>
                  <a:pt x="2766060" y="0"/>
                </a:lnTo>
                <a:lnTo>
                  <a:pt x="3368040" y="0"/>
                </a:lnTo>
                <a:lnTo>
                  <a:pt x="3390900" y="76200"/>
                </a:lnTo>
                <a:lnTo>
                  <a:pt x="3391644" y="361216"/>
                </a:lnTo>
                <a:lnTo>
                  <a:pt x="3607668" y="505232"/>
                </a:lnTo>
                <a:lnTo>
                  <a:pt x="4327748" y="721256"/>
                </a:lnTo>
                <a:lnTo>
                  <a:pt x="4471764" y="721256"/>
                </a:lnTo>
                <a:lnTo>
                  <a:pt x="4975820" y="793264"/>
                </a:lnTo>
                <a:lnTo>
                  <a:pt x="4975820" y="505232"/>
                </a:lnTo>
                <a:lnTo>
                  <a:pt x="5119836" y="505232"/>
                </a:lnTo>
                <a:lnTo>
                  <a:pt x="5263852" y="505232"/>
                </a:lnTo>
                <a:lnTo>
                  <a:pt x="5263852" y="217200"/>
                </a:lnTo>
                <a:lnTo>
                  <a:pt x="6559996" y="217200"/>
                </a:lnTo>
              </a:path>
            </a:pathLst>
          </a:custGeom>
          <a:solidFill>
            <a:srgbClr val="fac090">
              <a:alpha val="57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0"/>
          <p:cNvSpPr/>
          <p:nvPr/>
        </p:nvSpPr>
        <p:spPr>
          <a:xfrm>
            <a:off x="5702400" y="4264200"/>
            <a:ext cx="97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ЦС «Композитное производство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1"/>
          <p:cNvSpPr/>
          <p:nvPr/>
        </p:nvSpPr>
        <p:spPr>
          <a:xfrm>
            <a:off x="5695920" y="5111640"/>
            <a:ext cx="11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ЦК «МГиП» (новый корпус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6"/>
          <p:cNvSpPr/>
          <p:nvPr/>
        </p:nvSpPr>
        <p:spPr>
          <a:xfrm>
            <a:off x="5243400" y="223992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рритор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АО «ВАС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83"/>
          <p:cNvSpPr/>
          <p:nvPr/>
        </p:nvSpPr>
        <p:spPr>
          <a:xfrm flipH="1">
            <a:off x="6568560" y="1122480"/>
            <a:ext cx="135000" cy="60300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2"/>
          <p:cNvSpPr/>
          <p:nvPr/>
        </p:nvSpPr>
        <p:spPr>
          <a:xfrm>
            <a:off x="6939000" y="1616040"/>
            <a:ext cx="51264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5"/>
          <p:cNvSpPr/>
          <p:nvPr/>
        </p:nvSpPr>
        <p:spPr>
          <a:xfrm>
            <a:off x="7418520" y="1603440"/>
            <a:ext cx="0" cy="60120"/>
          </a:xfrm>
          <a:prstGeom prst="line">
            <a:avLst/>
          </a:prstGeom>
          <a:ln w="1260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67"/>
          <p:cNvSpPr/>
          <p:nvPr/>
        </p:nvSpPr>
        <p:spPr>
          <a:xfrm>
            <a:off x="6915240" y="1879560"/>
            <a:ext cx="503280" cy="396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ая соединительная линия 69"/>
          <p:cNvSpPr/>
          <p:nvPr/>
        </p:nvSpPr>
        <p:spPr>
          <a:xfrm flipV="1">
            <a:off x="7419960" y="1596960"/>
            <a:ext cx="19080" cy="35568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2"/>
          <p:cNvSpPr/>
          <p:nvPr/>
        </p:nvSpPr>
        <p:spPr>
          <a:xfrm>
            <a:off x="6424560" y="1616040"/>
            <a:ext cx="51264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69"/>
          <p:cNvSpPr/>
          <p:nvPr/>
        </p:nvSpPr>
        <p:spPr>
          <a:xfrm flipV="1">
            <a:off x="6442200" y="1534680"/>
            <a:ext cx="0" cy="810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2"/>
          <p:cNvSpPr/>
          <p:nvPr/>
        </p:nvSpPr>
        <p:spPr>
          <a:xfrm>
            <a:off x="6296040" y="1528920"/>
            <a:ext cx="131760" cy="288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69"/>
          <p:cNvSpPr/>
          <p:nvPr/>
        </p:nvSpPr>
        <p:spPr>
          <a:xfrm flipV="1">
            <a:off x="6303960" y="1356840"/>
            <a:ext cx="4680" cy="1638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2"/>
          <p:cNvSpPr/>
          <p:nvPr/>
        </p:nvSpPr>
        <p:spPr>
          <a:xfrm flipV="1">
            <a:off x="6075360" y="1356840"/>
            <a:ext cx="233280" cy="18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69"/>
          <p:cNvSpPr/>
          <p:nvPr/>
        </p:nvSpPr>
        <p:spPr>
          <a:xfrm flipV="1">
            <a:off x="6093000" y="1246320"/>
            <a:ext cx="0" cy="11088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2"/>
          <p:cNvSpPr/>
          <p:nvPr/>
        </p:nvSpPr>
        <p:spPr>
          <a:xfrm>
            <a:off x="5857920" y="1246320"/>
            <a:ext cx="24912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69"/>
          <p:cNvSpPr/>
          <p:nvPr/>
        </p:nvSpPr>
        <p:spPr>
          <a:xfrm flipV="1">
            <a:off x="5834160" y="1217160"/>
            <a:ext cx="0" cy="30348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2"/>
          <p:cNvSpPr/>
          <p:nvPr/>
        </p:nvSpPr>
        <p:spPr>
          <a:xfrm>
            <a:off x="5824440" y="1522440"/>
            <a:ext cx="225360" cy="1411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2"/>
          <p:cNvSpPr/>
          <p:nvPr/>
        </p:nvSpPr>
        <p:spPr>
          <a:xfrm>
            <a:off x="6081840" y="1673280"/>
            <a:ext cx="279360" cy="777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2"/>
          <p:cNvSpPr/>
          <p:nvPr/>
        </p:nvSpPr>
        <p:spPr>
          <a:xfrm>
            <a:off x="6386400" y="1755720"/>
            <a:ext cx="304920" cy="954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2"/>
          <p:cNvSpPr/>
          <p:nvPr/>
        </p:nvSpPr>
        <p:spPr>
          <a:xfrm>
            <a:off x="6642000" y="1838160"/>
            <a:ext cx="128520" cy="4140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"/>
          <p:cNvSpPr/>
          <p:nvPr/>
        </p:nvSpPr>
        <p:spPr>
          <a:xfrm flipV="1">
            <a:off x="6740640" y="1879200"/>
            <a:ext cx="174600" cy="18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олилиния 4"/>
          <p:cNvSpPr/>
          <p:nvPr/>
        </p:nvSpPr>
        <p:spPr>
          <a:xfrm>
            <a:off x="6991200" y="1676520"/>
            <a:ext cx="406440" cy="198360"/>
          </a:xfrm>
          <a:custGeom>
            <a:avLst/>
            <a:gdLst>
              <a:gd name="textAreaLeft" fmla="*/ 0 w 406440"/>
              <a:gd name="textAreaRight" fmla="*/ 406800 w 4064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64411" h="107477">
                <a:moveTo>
                  <a:pt x="0" y="107477"/>
                </a:moveTo>
                <a:lnTo>
                  <a:pt x="463618" y="105089"/>
                </a:lnTo>
                <a:cubicBezTo>
                  <a:pt x="463882" y="70059"/>
                  <a:pt x="464147" y="35030"/>
                  <a:pt x="464411" y="0"/>
                </a:cubicBezTo>
                <a:lnTo>
                  <a:pt x="0" y="0"/>
                </a:lnTo>
                <a:lnTo>
                  <a:pt x="0" y="107477"/>
                </a:lnTo>
                <a:close/>
              </a:path>
            </a:pathLst>
          </a:custGeom>
          <a:solidFill>
            <a:srgbClr val="cc00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ая соединительная линия 83"/>
          <p:cNvSpPr/>
          <p:nvPr/>
        </p:nvSpPr>
        <p:spPr>
          <a:xfrm flipH="1">
            <a:off x="7236000" y="1114560"/>
            <a:ext cx="226800" cy="6649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7360920" y="836640"/>
            <a:ext cx="182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О «РУСАВИАИНТЕР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Прямоугольник 55"/>
          <p:cNvGrpSpPr/>
          <p:nvPr/>
        </p:nvGrpSpPr>
        <p:grpSpPr>
          <a:xfrm>
            <a:off x="4479840" y="3486240"/>
            <a:ext cx="884160" cy="744480"/>
            <a:chOff x="4479840" y="3486240"/>
            <a:chExt cx="884160" cy="744480"/>
          </a:xfrm>
        </p:grpSpPr>
        <p:pic>
          <p:nvPicPr>
            <p:cNvPr id="290" name="Прямоугольник 55" descr=""/>
            <p:cNvPicPr/>
            <p:nvPr/>
          </p:nvPicPr>
          <p:blipFill>
            <a:blip r:embed="rId1"/>
            <a:stretch/>
          </p:blipFill>
          <p:spPr>
            <a:xfrm>
              <a:off x="4479840" y="3486240"/>
              <a:ext cx="8841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500720" y="3503520"/>
              <a:ext cx="8539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Прямая соединительная линия 40"/>
          <p:cNvSpPr/>
          <p:nvPr/>
        </p:nvSpPr>
        <p:spPr>
          <a:xfrm flipH="1" flipV="1">
            <a:off x="4500360" y="4215960"/>
            <a:ext cx="717480" cy="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42"/>
          <p:cNvSpPr/>
          <p:nvPr/>
        </p:nvSpPr>
        <p:spPr>
          <a:xfrm flipH="1">
            <a:off x="4497120" y="3500280"/>
            <a:ext cx="3240" cy="717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9"/>
          <p:cNvSpPr/>
          <p:nvPr/>
        </p:nvSpPr>
        <p:spPr>
          <a:xfrm>
            <a:off x="5221440" y="4218120"/>
            <a:ext cx="295200" cy="287280"/>
          </a:xfrm>
          <a:prstGeom prst="rect">
            <a:avLst/>
          </a:prstGeom>
          <a:solidFill>
            <a:srgbClr val="66ff6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0"/>
          <p:cNvSpPr/>
          <p:nvPr/>
        </p:nvSpPr>
        <p:spPr>
          <a:xfrm>
            <a:off x="5354640" y="4017960"/>
            <a:ext cx="162000" cy="200160"/>
          </a:xfrm>
          <a:prstGeom prst="rect">
            <a:avLst/>
          </a:prstGeom>
          <a:solidFill>
            <a:srgbClr val="66ff66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ый треугольник 2110"/>
          <p:cNvSpPr/>
          <p:nvPr/>
        </p:nvSpPr>
        <p:spPr>
          <a:xfrm>
            <a:off x="5354640" y="3500280"/>
            <a:ext cx="162000" cy="517680"/>
          </a:xfrm>
          <a:prstGeom prst="rtTriangle">
            <a:avLst/>
          </a:prstGeom>
          <a:solidFill>
            <a:srgbClr val="66ff66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4"/>
          <p:cNvSpPr/>
          <p:nvPr/>
        </p:nvSpPr>
        <p:spPr>
          <a:xfrm>
            <a:off x="6600960" y="852480"/>
            <a:ext cx="8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К ВАТП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96"/>
          <p:cNvSpPr/>
          <p:nvPr/>
        </p:nvSpPr>
        <p:spPr>
          <a:xfrm>
            <a:off x="6386400" y="5661000"/>
            <a:ext cx="633600" cy="20808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2047"/>
          <p:cNvSpPr/>
          <p:nvPr/>
        </p:nvSpPr>
        <p:spPr>
          <a:xfrm>
            <a:off x="5354640" y="3500280"/>
            <a:ext cx="162000" cy="517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26"/>
          <p:cNvSpPr/>
          <p:nvPr/>
        </p:nvSpPr>
        <p:spPr>
          <a:xfrm>
            <a:off x="4497480" y="3500280"/>
            <a:ext cx="857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2070"/>
          <p:cNvSpPr/>
          <p:nvPr/>
        </p:nvSpPr>
        <p:spPr>
          <a:xfrm>
            <a:off x="5516640" y="4017960"/>
            <a:ext cx="0" cy="487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31"/>
          <p:cNvSpPr/>
          <p:nvPr/>
        </p:nvSpPr>
        <p:spPr>
          <a:xfrm flipH="1">
            <a:off x="5221440" y="4505400"/>
            <a:ext cx="295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35"/>
          <p:cNvSpPr/>
          <p:nvPr/>
        </p:nvSpPr>
        <p:spPr>
          <a:xfrm flipV="1">
            <a:off x="5221440" y="421596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38"/>
          <p:cNvSpPr/>
          <p:nvPr/>
        </p:nvSpPr>
        <p:spPr>
          <a:xfrm>
            <a:off x="2928960" y="5151600"/>
            <a:ext cx="108000" cy="45720"/>
          </a:xfrm>
          <a:prstGeom prst="rect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41"/>
          <p:cNvSpPr/>
          <p:nvPr/>
        </p:nvSpPr>
        <p:spPr>
          <a:xfrm>
            <a:off x="4346640" y="3639960"/>
            <a:ext cx="128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ранспортно-логистический комплекс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(новый корпус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40"/>
          <p:cNvSpPr/>
          <p:nvPr/>
        </p:nvSpPr>
        <p:spPr>
          <a:xfrm>
            <a:off x="2905200" y="4371840"/>
            <a:ext cx="1000080" cy="5724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48"/>
          <p:cNvSpPr/>
          <p:nvPr/>
        </p:nvSpPr>
        <p:spPr>
          <a:xfrm>
            <a:off x="5784840" y="4118040"/>
            <a:ext cx="76680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51"/>
          <p:cNvSpPr/>
          <p:nvPr/>
        </p:nvSpPr>
        <p:spPr>
          <a:xfrm flipH="1">
            <a:off x="6560640" y="4130640"/>
            <a:ext cx="1800" cy="257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154"/>
          <p:cNvSpPr/>
          <p:nvPr/>
        </p:nvSpPr>
        <p:spPr>
          <a:xfrm>
            <a:off x="6553080" y="43815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58"/>
          <p:cNvSpPr/>
          <p:nvPr/>
        </p:nvSpPr>
        <p:spPr>
          <a:xfrm>
            <a:off x="6651720" y="4381560"/>
            <a:ext cx="0" cy="16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3"/>
          <p:cNvSpPr/>
          <p:nvPr/>
        </p:nvSpPr>
        <p:spPr>
          <a:xfrm flipH="1">
            <a:off x="6553080" y="4543560"/>
            <a:ext cx="98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65"/>
          <p:cNvSpPr/>
          <p:nvPr/>
        </p:nvSpPr>
        <p:spPr>
          <a:xfrm>
            <a:off x="6553080" y="4552920"/>
            <a:ext cx="0" cy="3621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68"/>
          <p:cNvSpPr/>
          <p:nvPr/>
        </p:nvSpPr>
        <p:spPr>
          <a:xfrm flipH="1">
            <a:off x="5608440" y="4915080"/>
            <a:ext cx="944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70"/>
          <p:cNvSpPr/>
          <p:nvPr/>
        </p:nvSpPr>
        <p:spPr>
          <a:xfrm flipV="1">
            <a:off x="5608800" y="4730760"/>
            <a:ext cx="0" cy="184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ая соединительная линия 172"/>
          <p:cNvSpPr/>
          <p:nvPr/>
        </p:nvSpPr>
        <p:spPr>
          <a:xfrm>
            <a:off x="5614920" y="4730760"/>
            <a:ext cx="169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ая соединительная линия 175"/>
          <p:cNvSpPr/>
          <p:nvPr/>
        </p:nvSpPr>
        <p:spPr>
          <a:xfrm>
            <a:off x="5784840" y="4124160"/>
            <a:ext cx="0" cy="60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3"/>
          <p:cNvSpPr/>
          <p:nvPr/>
        </p:nvSpPr>
        <p:spPr>
          <a:xfrm>
            <a:off x="1270440" y="178128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тора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"/>
          <p:cNvSpPr/>
          <p:nvPr/>
        </p:nvSpPr>
        <p:spPr>
          <a:xfrm>
            <a:off x="2082240" y="420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ая соединительная линия 88"/>
          <p:cNvSpPr/>
          <p:nvPr/>
        </p:nvSpPr>
        <p:spPr>
          <a:xfrm flipH="1">
            <a:off x="2084400" y="4522680"/>
            <a:ext cx="30168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ая соединительная линия 88"/>
          <p:cNvSpPr/>
          <p:nvPr/>
        </p:nvSpPr>
        <p:spPr>
          <a:xfrm flipH="1" flipV="1">
            <a:off x="4546440" y="5638320"/>
            <a:ext cx="54000" cy="771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ая соединительная линия 88"/>
          <p:cNvSpPr/>
          <p:nvPr/>
        </p:nvSpPr>
        <p:spPr>
          <a:xfrm flipH="1" flipV="1">
            <a:off x="6638400" y="5802480"/>
            <a:ext cx="65160" cy="599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88"/>
          <p:cNvSpPr/>
          <p:nvPr/>
        </p:nvSpPr>
        <p:spPr>
          <a:xfrm flipH="1" flipV="1">
            <a:off x="5714640" y="4424400"/>
            <a:ext cx="206280" cy="19778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8"/>
          <p:cNvSpPr/>
          <p:nvPr/>
        </p:nvSpPr>
        <p:spPr>
          <a:xfrm flipH="1" flipV="1">
            <a:off x="5562720" y="3279240"/>
            <a:ext cx="46080" cy="411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ая соединительная линия 88"/>
          <p:cNvSpPr/>
          <p:nvPr/>
        </p:nvSpPr>
        <p:spPr>
          <a:xfrm flipH="1">
            <a:off x="5562720" y="3279600"/>
            <a:ext cx="25704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67"/>
          <p:cNvSpPr/>
          <p:nvPr/>
        </p:nvSpPr>
        <p:spPr>
          <a:xfrm>
            <a:off x="5536800" y="2954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72"/>
          <p:cNvSpPr/>
          <p:nvPr/>
        </p:nvSpPr>
        <p:spPr>
          <a:xfrm>
            <a:off x="6013080" y="8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88"/>
          <p:cNvSpPr/>
          <p:nvPr/>
        </p:nvSpPr>
        <p:spPr>
          <a:xfrm flipH="1">
            <a:off x="6036840" y="1133640"/>
            <a:ext cx="25884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9"/>
          <p:cNvSpPr/>
          <p:nvPr/>
        </p:nvSpPr>
        <p:spPr>
          <a:xfrm>
            <a:off x="611280" y="1114560"/>
            <a:ext cx="360360" cy="17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11"/>
          <p:cNvSpPr/>
          <p:nvPr/>
        </p:nvSpPr>
        <p:spPr>
          <a:xfrm>
            <a:off x="771480" y="1233360"/>
            <a:ext cx="1623960" cy="596880"/>
          </a:xfrm>
          <a:prstGeom prst="rect">
            <a:avLst/>
          </a:pr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1"/>
          <p:cNvSpPr/>
          <p:nvPr/>
        </p:nvSpPr>
        <p:spPr>
          <a:xfrm>
            <a:off x="817560" y="1274760"/>
            <a:ext cx="358920" cy="144360"/>
          </a:xfrm>
          <a:prstGeom prst="rect">
            <a:avLst/>
          </a:prstGeom>
          <a:solidFill>
            <a:srgbClr val="cc0099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3"/>
          <p:cNvSpPr/>
          <p:nvPr/>
        </p:nvSpPr>
        <p:spPr>
          <a:xfrm>
            <a:off x="817560" y="1452600"/>
            <a:ext cx="358920" cy="144360"/>
          </a:xfrm>
          <a:prstGeom prst="rect">
            <a:avLst/>
          </a:prstGeom>
          <a:solidFill>
            <a:srgbClr val="ffff00">
              <a:alpha val="6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2"/>
          <p:cNvSpPr/>
          <p:nvPr/>
        </p:nvSpPr>
        <p:spPr>
          <a:xfrm>
            <a:off x="817560" y="1643040"/>
            <a:ext cx="358920" cy="142920"/>
          </a:xfrm>
          <a:prstGeom prst="rect">
            <a:avLst/>
          </a:prstGeom>
          <a:solidFill>
            <a:srgbClr val="00ff00">
              <a:alpha val="5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0"/>
          <p:cNvSpPr/>
          <p:nvPr/>
        </p:nvSpPr>
        <p:spPr>
          <a:xfrm>
            <a:off x="1278720" y="1224000"/>
            <a:ext cx="67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1 эта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79"/>
          <p:cNvSpPr/>
          <p:nvPr/>
        </p:nvSpPr>
        <p:spPr>
          <a:xfrm>
            <a:off x="1277280" y="1409760"/>
            <a:ext cx="67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 эта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80"/>
          <p:cNvSpPr/>
          <p:nvPr/>
        </p:nvSpPr>
        <p:spPr>
          <a:xfrm>
            <a:off x="1278720" y="1593720"/>
            <a:ext cx="67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2"/>
          <p:cNvSpPr/>
          <p:nvPr/>
        </p:nvSpPr>
        <p:spPr>
          <a:xfrm>
            <a:off x="817560" y="1870200"/>
            <a:ext cx="358920" cy="144360"/>
          </a:xfrm>
          <a:prstGeom prst="rect">
            <a:avLst/>
          </a:prstGeom>
          <a:solidFill>
            <a:srgbClr val="00b0f0">
              <a:alpha val="83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81"/>
          <p:cNvSpPr/>
          <p:nvPr/>
        </p:nvSpPr>
        <p:spPr>
          <a:xfrm>
            <a:off x="71640" y="22320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 - Бизнес-цент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82"/>
          <p:cNvSpPr/>
          <p:nvPr/>
        </p:nvSpPr>
        <p:spPr>
          <a:xfrm>
            <a:off x="74880" y="2389320"/>
            <a:ext cx="218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 - ООО «Авиаспецинструмент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3"/>
          <p:cNvSpPr/>
          <p:nvPr/>
        </p:nvSpPr>
        <p:spPr>
          <a:xfrm>
            <a:off x="75960" y="2735280"/>
            <a:ext cx="19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4 - Кузнечно-штамповочно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4"/>
          <p:cNvSpPr/>
          <p:nvPr/>
        </p:nvSpPr>
        <p:spPr>
          <a:xfrm>
            <a:off x="75240" y="2575080"/>
            <a:ext cx="14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3 - ЗАО «АРМИКОМ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85"/>
          <p:cNvSpPr/>
          <p:nvPr/>
        </p:nvSpPr>
        <p:spPr>
          <a:xfrm>
            <a:off x="72360" y="3065400"/>
            <a:ext cx="15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5 - ЦС «Спецоснаст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86"/>
          <p:cNvSpPr/>
          <p:nvPr/>
        </p:nvSpPr>
        <p:spPr>
          <a:xfrm>
            <a:off x="72000" y="3263760"/>
            <a:ext cx="218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6 – ЦИС ВА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(1,3,4 этажи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Авиационный техникум (2 этаж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88"/>
          <p:cNvSpPr/>
          <p:nvPr/>
        </p:nvSpPr>
        <p:spPr>
          <a:xfrm flipH="1" flipV="1">
            <a:off x="6703920" y="1122480"/>
            <a:ext cx="604800" cy="144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88"/>
          <p:cNvSpPr/>
          <p:nvPr/>
        </p:nvSpPr>
        <p:spPr>
          <a:xfrm flipH="1">
            <a:off x="7462440" y="1119240"/>
            <a:ext cx="150516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567000" y="744480"/>
            <a:ext cx="2277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"/>
          <p:cNvSpPr/>
          <p:nvPr/>
        </p:nvSpPr>
        <p:spPr>
          <a:xfrm>
            <a:off x="5965920" y="1352520"/>
            <a:ext cx="425520" cy="397080"/>
          </a:xfrm>
          <a:custGeom>
            <a:avLst/>
            <a:gdLst>
              <a:gd name="textAreaLeft" fmla="*/ 0 w 425520"/>
              <a:gd name="textAreaRight" fmla="*/ 425880 w 4255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425003" h="396669">
                <a:moveTo>
                  <a:pt x="0" y="236971"/>
                </a:moveTo>
                <a:lnTo>
                  <a:pt x="0" y="2575"/>
                </a:lnTo>
                <a:lnTo>
                  <a:pt x="327123" y="0"/>
                </a:lnTo>
                <a:lnTo>
                  <a:pt x="334851" y="226668"/>
                </a:lnTo>
                <a:lnTo>
                  <a:pt x="425003" y="226668"/>
                </a:lnTo>
                <a:lnTo>
                  <a:pt x="425003" y="396669"/>
                </a:lnTo>
                <a:lnTo>
                  <a:pt x="77273" y="293638"/>
                </a:lnTo>
                <a:lnTo>
                  <a:pt x="0" y="236971"/>
                </a:lnTo>
                <a:close/>
              </a:path>
            </a:pathLst>
          </a:custGeom>
          <a:solidFill>
            <a:srgbClr val="cc00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3"/>
          <p:cNvSpPr/>
          <p:nvPr/>
        </p:nvSpPr>
        <p:spPr>
          <a:xfrm>
            <a:off x="1263960" y="201456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тья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32"/>
          <p:cNvSpPr/>
          <p:nvPr/>
        </p:nvSpPr>
        <p:spPr>
          <a:xfrm>
            <a:off x="817560" y="2081160"/>
            <a:ext cx="358920" cy="144360"/>
          </a:xfrm>
          <a:prstGeom prst="rect">
            <a:avLst/>
          </a:pr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"/>
          <p:cNvSpPr/>
          <p:nvPr/>
        </p:nvSpPr>
        <p:spPr>
          <a:xfrm>
            <a:off x="2901960" y="4025880"/>
            <a:ext cx="1000080" cy="361800"/>
          </a:xfrm>
          <a:prstGeom prst="rect">
            <a:avLst/>
          </a:prstGeom>
          <a:solidFill>
            <a:srgbClr val="ffff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4"/>
          <p:cNvSpPr/>
          <p:nvPr/>
        </p:nvSpPr>
        <p:spPr>
          <a:xfrm>
            <a:off x="3025800" y="3392640"/>
            <a:ext cx="0" cy="590400"/>
          </a:xfrm>
          <a:prstGeom prst="line">
            <a:avLst/>
          </a:prstGeom>
          <a:ln w="381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42"/>
          <p:cNvSpPr/>
          <p:nvPr/>
        </p:nvSpPr>
        <p:spPr>
          <a:xfrm>
            <a:off x="3025800" y="3392640"/>
            <a:ext cx="927000" cy="12600"/>
          </a:xfrm>
          <a:prstGeom prst="line">
            <a:avLst/>
          </a:prstGeom>
          <a:ln w="381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3011400" y="3376440"/>
            <a:ext cx="927360" cy="590760"/>
          </a:xfrm>
          <a:prstGeom prst="rect">
            <a:avLst/>
          </a:prstGeom>
          <a:solidFill>
            <a:srgbClr val="fcd5b5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1"/>
          <p:cNvSpPr/>
          <p:nvPr/>
        </p:nvSpPr>
        <p:spPr>
          <a:xfrm>
            <a:off x="3938760" y="3382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14"/>
          <p:cNvSpPr/>
          <p:nvPr/>
        </p:nvSpPr>
        <p:spPr>
          <a:xfrm>
            <a:off x="2982960" y="3957480"/>
            <a:ext cx="95580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лилиния 2"/>
          <p:cNvSpPr/>
          <p:nvPr/>
        </p:nvSpPr>
        <p:spPr>
          <a:xfrm>
            <a:off x="2432160" y="3395520"/>
            <a:ext cx="4606920" cy="2695680"/>
          </a:xfrm>
          <a:custGeom>
            <a:avLst/>
            <a:gdLst>
              <a:gd name="textAreaLeft" fmla="*/ 0 w 4606920"/>
              <a:gd name="textAreaRight" fmla="*/ 4607280 w 4606920"/>
              <a:gd name="textAreaTop" fmla="*/ 0 h 2695680"/>
              <a:gd name="textAreaBottom" fmla="*/ 2696040 h 2695680"/>
            </a:gdLst>
            <a:ahLst/>
            <a:rect l="textAreaLeft" t="textAreaTop" r="textAreaRight" b="textAreaBottom"/>
            <a:pathLst>
              <a:path w="4606321" h="2695575">
                <a:moveTo>
                  <a:pt x="20034" y="2695575"/>
                </a:moveTo>
                <a:cubicBezTo>
                  <a:pt x="20986" y="1987550"/>
                  <a:pt x="-921" y="1279525"/>
                  <a:pt x="31" y="571500"/>
                </a:cubicBezTo>
                <a:lnTo>
                  <a:pt x="1496213" y="561975"/>
                </a:lnTo>
                <a:lnTo>
                  <a:pt x="1511451" y="0"/>
                </a:lnTo>
                <a:lnTo>
                  <a:pt x="3672389" y="28575"/>
                </a:lnTo>
                <a:lnTo>
                  <a:pt x="3685723" y="495300"/>
                </a:lnTo>
                <a:lnTo>
                  <a:pt x="4244371" y="500062"/>
                </a:lnTo>
                <a:lnTo>
                  <a:pt x="4244371" y="2157412"/>
                </a:lnTo>
                <a:lnTo>
                  <a:pt x="4601559" y="2157412"/>
                </a:lnTo>
                <a:cubicBezTo>
                  <a:pt x="4603146" y="2298700"/>
                  <a:pt x="4604734" y="2439987"/>
                  <a:pt x="4606321" y="2581275"/>
                </a:cubicBezTo>
                <a:lnTo>
                  <a:pt x="4401534" y="2566987"/>
                </a:lnTo>
                <a:lnTo>
                  <a:pt x="4268184" y="2681287"/>
                </a:lnTo>
                <a:lnTo>
                  <a:pt x="20034" y="2695575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олилиния 25"/>
          <p:cNvSpPr/>
          <p:nvPr/>
        </p:nvSpPr>
        <p:spPr>
          <a:xfrm>
            <a:off x="4143240" y="3638520"/>
            <a:ext cx="231840" cy="406440"/>
          </a:xfrm>
          <a:custGeom>
            <a:avLst/>
            <a:gdLst>
              <a:gd name="textAreaLeft" fmla="*/ 0 w 231840"/>
              <a:gd name="textAreaRight" fmla="*/ 232200 w 231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231775" h="406400">
                <a:moveTo>
                  <a:pt x="0" y="12700"/>
                </a:moveTo>
                <a:lnTo>
                  <a:pt x="104775" y="12700"/>
                </a:lnTo>
                <a:lnTo>
                  <a:pt x="212725" y="0"/>
                </a:lnTo>
                <a:cubicBezTo>
                  <a:pt x="213783" y="63500"/>
                  <a:pt x="214842" y="127000"/>
                  <a:pt x="215900" y="190500"/>
                </a:cubicBezTo>
                <a:lnTo>
                  <a:pt x="228600" y="190500"/>
                </a:lnTo>
                <a:cubicBezTo>
                  <a:pt x="229658" y="250825"/>
                  <a:pt x="230717" y="311150"/>
                  <a:pt x="231775" y="371475"/>
                </a:cubicBezTo>
                <a:lnTo>
                  <a:pt x="209550" y="403225"/>
                </a:lnTo>
                <a:lnTo>
                  <a:pt x="79375" y="406400"/>
                </a:lnTo>
                <a:lnTo>
                  <a:pt x="76200" y="361950"/>
                </a:lnTo>
                <a:lnTo>
                  <a:pt x="0" y="365125"/>
                </a:lnTo>
                <a:lnTo>
                  <a:pt x="0" y="127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6"/>
          <p:cNvSpPr/>
          <p:nvPr/>
        </p:nvSpPr>
        <p:spPr>
          <a:xfrm>
            <a:off x="4143240" y="3638520"/>
            <a:ext cx="231840" cy="406440"/>
          </a:xfrm>
          <a:prstGeom prst="rect">
            <a:avLst/>
          </a:pr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88"/>
          <p:cNvSpPr/>
          <p:nvPr/>
        </p:nvSpPr>
        <p:spPr>
          <a:xfrm flipH="1">
            <a:off x="2387520" y="4381560"/>
            <a:ext cx="231840" cy="1411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4"/>
          <p:cNvSpPr/>
          <p:nvPr/>
        </p:nvSpPr>
        <p:spPr>
          <a:xfrm>
            <a:off x="340488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88"/>
          <p:cNvSpPr/>
          <p:nvPr/>
        </p:nvSpPr>
        <p:spPr>
          <a:xfrm flipH="1">
            <a:off x="3416400" y="3635280"/>
            <a:ext cx="29376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88"/>
          <p:cNvSpPr/>
          <p:nvPr/>
        </p:nvSpPr>
        <p:spPr>
          <a:xfrm flipH="1" flipV="1">
            <a:off x="3706920" y="3634920"/>
            <a:ext cx="504720" cy="1954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6"/>
          <p:cNvSpPr/>
          <p:nvPr/>
        </p:nvSpPr>
        <p:spPr>
          <a:xfrm>
            <a:off x="65520" y="3708360"/>
            <a:ext cx="2032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7 - Производство деталей из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агниевых сплав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69"/>
          <p:cNvSpPr/>
          <p:nvPr/>
        </p:nvSpPr>
        <p:spPr>
          <a:xfrm>
            <a:off x="2747880" y="3992400"/>
            <a:ext cx="13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ЦС «Механо-обрабатывающее производство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6"/>
          <p:cNvSpPr/>
          <p:nvPr/>
        </p:nvSpPr>
        <p:spPr>
          <a:xfrm>
            <a:off x="3992400" y="3586320"/>
            <a:ext cx="382680" cy="50760"/>
          </a:xfrm>
          <a:prstGeom prst="rect">
            <a:avLst/>
          </a:pr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6"/>
          <p:cNvSpPr/>
          <p:nvPr/>
        </p:nvSpPr>
        <p:spPr>
          <a:xfrm>
            <a:off x="2905200" y="5183280"/>
            <a:ext cx="338040" cy="153720"/>
          </a:xfrm>
          <a:custGeom>
            <a:avLst/>
            <a:gdLst>
              <a:gd name="textAreaLeft" fmla="*/ 0 w 338040"/>
              <a:gd name="textAreaRight" fmla="*/ 338400 w 338040"/>
              <a:gd name="textAreaTop" fmla="*/ 0 h 153720"/>
              <a:gd name="textAreaBottom" fmla="*/ 154080 h 153720"/>
            </a:gdLst>
            <a:ahLst/>
            <a:rect l="textAreaLeft" t="textAreaTop" r="textAreaRight" b="textAreaBottom"/>
            <a:pathLst>
              <a:path w="534" h="244">
                <a:moveTo>
                  <a:pt x="0" y="244"/>
                </a:moveTo>
                <a:lnTo>
                  <a:pt x="5" y="0"/>
                </a:lnTo>
                <a:lnTo>
                  <a:pt x="50" y="0"/>
                </a:lnTo>
                <a:lnTo>
                  <a:pt x="50" y="55"/>
                </a:lnTo>
                <a:lnTo>
                  <a:pt x="228" y="55"/>
                </a:lnTo>
                <a:lnTo>
                  <a:pt x="222" y="0"/>
                </a:lnTo>
                <a:lnTo>
                  <a:pt x="534" y="0"/>
                </a:lnTo>
                <a:lnTo>
                  <a:pt x="534" y="244"/>
                </a:lnTo>
                <a:lnTo>
                  <a:pt x="0" y="244"/>
                </a:lnTo>
                <a:close/>
              </a:path>
            </a:pathLst>
          </a:custGeom>
          <a:solidFill>
            <a:srgbClr val="cc0099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3171960" y="5013360"/>
            <a:ext cx="96840" cy="104760"/>
          </a:xfrm>
          <a:prstGeom prst="rect">
            <a:avLst/>
          </a:pr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271680" y="5634000"/>
            <a:ext cx="92160" cy="235080"/>
          </a:xfrm>
          <a:prstGeom prst="rect">
            <a:avLst/>
          </a:pr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505320" y="5268960"/>
            <a:ext cx="268200" cy="14616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0"/>
          <p:cNvSpPr/>
          <p:nvPr/>
        </p:nvSpPr>
        <p:spPr>
          <a:xfrm>
            <a:off x="3913200" y="5634000"/>
            <a:ext cx="230040" cy="166680"/>
          </a:xfrm>
          <a:custGeom>
            <a:avLst/>
            <a:gdLst>
              <a:gd name="textAreaLeft" fmla="*/ 0 w 230040"/>
              <a:gd name="textAreaRight" fmla="*/ 230400 w 2300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62" h="261">
                <a:moveTo>
                  <a:pt x="0" y="261"/>
                </a:moveTo>
                <a:lnTo>
                  <a:pt x="3" y="0"/>
                </a:lnTo>
                <a:lnTo>
                  <a:pt x="362" y="3"/>
                </a:lnTo>
                <a:lnTo>
                  <a:pt x="360" y="66"/>
                </a:lnTo>
                <a:lnTo>
                  <a:pt x="312" y="66"/>
                </a:lnTo>
                <a:lnTo>
                  <a:pt x="312" y="79"/>
                </a:lnTo>
                <a:lnTo>
                  <a:pt x="215" y="79"/>
                </a:lnTo>
                <a:lnTo>
                  <a:pt x="211" y="168"/>
                </a:lnTo>
                <a:lnTo>
                  <a:pt x="89" y="168"/>
                </a:lnTo>
                <a:lnTo>
                  <a:pt x="82" y="261"/>
                </a:lnTo>
                <a:lnTo>
                  <a:pt x="0" y="261"/>
                </a:lnTo>
                <a:close/>
              </a:path>
            </a:pathLst>
          </a:cu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2940120" y="5176800"/>
            <a:ext cx="104760" cy="46080"/>
          </a:xfrm>
          <a:prstGeom prst="rect">
            <a:avLst/>
          </a:prstGeom>
          <a:solidFill>
            <a:srgbClr val="ffff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ая соединительная линия 88"/>
          <p:cNvSpPr/>
          <p:nvPr/>
        </p:nvSpPr>
        <p:spPr>
          <a:xfrm flipH="1" flipV="1">
            <a:off x="3965400" y="5681160"/>
            <a:ext cx="54000" cy="7369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4"/>
          <p:cNvSpPr/>
          <p:nvPr/>
        </p:nvSpPr>
        <p:spPr>
          <a:xfrm>
            <a:off x="4722840" y="4773600"/>
            <a:ext cx="549360" cy="415800"/>
          </a:xfrm>
          <a:custGeom>
            <a:avLst/>
            <a:gdLst>
              <a:gd name="textAreaLeft" fmla="*/ 0 w 549360"/>
              <a:gd name="textAreaRight" fmla="*/ 549720 w 5493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863" h="654">
                <a:moveTo>
                  <a:pt x="0" y="375"/>
                </a:moveTo>
                <a:lnTo>
                  <a:pt x="0" y="0"/>
                </a:lnTo>
                <a:lnTo>
                  <a:pt x="853" y="14"/>
                </a:lnTo>
                <a:lnTo>
                  <a:pt x="863" y="551"/>
                </a:lnTo>
                <a:lnTo>
                  <a:pt x="748" y="551"/>
                </a:lnTo>
                <a:lnTo>
                  <a:pt x="748" y="654"/>
                </a:lnTo>
                <a:lnTo>
                  <a:pt x="153" y="645"/>
                </a:lnTo>
                <a:lnTo>
                  <a:pt x="147" y="387"/>
                </a:lnTo>
                <a:lnTo>
                  <a:pt x="0" y="375"/>
                </a:lnTo>
                <a:close/>
              </a:path>
            </a:pathLst>
          </a:cu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102"/>
          <p:cNvSpPr/>
          <p:nvPr/>
        </p:nvSpPr>
        <p:spPr>
          <a:xfrm>
            <a:off x="5624640" y="5513400"/>
            <a:ext cx="153720" cy="461880"/>
          </a:xfrm>
          <a:prstGeom prst="rect">
            <a:avLst/>
          </a:prstGeom>
          <a:solidFill>
            <a:srgbClr val="00b0f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"/>
          <p:cNvSpPr/>
          <p:nvPr/>
        </p:nvSpPr>
        <p:spPr>
          <a:xfrm>
            <a:off x="5481720" y="5127480"/>
            <a:ext cx="160200" cy="397080"/>
          </a:xfrm>
          <a:custGeom>
            <a:avLst/>
            <a:gdLst>
              <a:gd name="textAreaLeft" fmla="*/ 0 w 160200"/>
              <a:gd name="textAreaRight" fmla="*/ 160560 w 16020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51" h="623">
                <a:moveTo>
                  <a:pt x="7" y="623"/>
                </a:moveTo>
                <a:lnTo>
                  <a:pt x="0" y="0"/>
                </a:lnTo>
                <a:lnTo>
                  <a:pt x="81" y="0"/>
                </a:lnTo>
                <a:lnTo>
                  <a:pt x="87" y="118"/>
                </a:lnTo>
                <a:lnTo>
                  <a:pt x="176" y="111"/>
                </a:lnTo>
                <a:lnTo>
                  <a:pt x="183" y="459"/>
                </a:lnTo>
                <a:lnTo>
                  <a:pt x="251" y="443"/>
                </a:lnTo>
                <a:lnTo>
                  <a:pt x="251" y="623"/>
                </a:lnTo>
                <a:lnTo>
                  <a:pt x="7" y="623"/>
                </a:lnTo>
                <a:close/>
              </a:path>
            </a:pathLst>
          </a:custGeom>
          <a:solidFill>
            <a:srgbClr val="00b0f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4686480" y="5208480"/>
            <a:ext cx="806400" cy="766800"/>
          </a:xfrm>
          <a:prstGeom prst="rect">
            <a:avLst/>
          </a:prstGeom>
          <a:solidFill>
            <a:srgbClr val="00b0f0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03"/>
          <p:cNvSpPr/>
          <p:nvPr/>
        </p:nvSpPr>
        <p:spPr>
          <a:xfrm>
            <a:off x="5487840" y="5510160"/>
            <a:ext cx="152640" cy="461880"/>
          </a:xfrm>
          <a:prstGeom prst="rect">
            <a:avLst/>
          </a:prstGeom>
          <a:solidFill>
            <a:srgbClr val="00b0f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72"/>
          <p:cNvSpPr/>
          <p:nvPr/>
        </p:nvSpPr>
        <p:spPr>
          <a:xfrm>
            <a:off x="4627440" y="5208480"/>
            <a:ext cx="1149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Заготовительно-штамповочное производство (новый корпус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88"/>
          <p:cNvSpPr/>
          <p:nvPr/>
        </p:nvSpPr>
        <p:spPr>
          <a:xfrm flipH="1" flipV="1">
            <a:off x="5037120" y="5006880"/>
            <a:ext cx="106560" cy="14032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88"/>
          <p:cNvSpPr/>
          <p:nvPr/>
        </p:nvSpPr>
        <p:spPr>
          <a:xfrm flipV="1">
            <a:off x="3171960" y="5062680"/>
            <a:ext cx="44280" cy="13557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ая соединительная линия 88"/>
          <p:cNvSpPr/>
          <p:nvPr/>
        </p:nvSpPr>
        <p:spPr>
          <a:xfrm flipH="1" flipV="1">
            <a:off x="3044520" y="5284440"/>
            <a:ext cx="127080" cy="114156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ая соединительная линия 88"/>
          <p:cNvSpPr/>
          <p:nvPr/>
        </p:nvSpPr>
        <p:spPr>
          <a:xfrm flipV="1">
            <a:off x="3171960" y="5776920"/>
            <a:ext cx="144360" cy="64152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-403200" y="3994200"/>
            <a:ext cx="2127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8 - ООО «Авиалайн-В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-403200" y="4197240"/>
            <a:ext cx="2176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9 - ЗАО «Авиатехснаб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5"/>
          <p:cNvSpPr/>
          <p:nvPr/>
        </p:nvSpPr>
        <p:spPr>
          <a:xfrm>
            <a:off x="-458640" y="4389480"/>
            <a:ext cx="2438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10 - СП «Гидроаппаратур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18"/>
          <p:cNvSpPr/>
          <p:nvPr/>
        </p:nvSpPr>
        <p:spPr>
          <a:xfrm>
            <a:off x="4683240" y="5118120"/>
            <a:ext cx="1103040" cy="857160"/>
          </a:xfrm>
          <a:custGeom>
            <a:avLst/>
            <a:gdLst>
              <a:gd name="textAreaLeft" fmla="*/ 0 w 1103040"/>
              <a:gd name="textAreaRight" fmla="*/ 1103400 w 110304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1739" h="1350">
                <a:moveTo>
                  <a:pt x="0" y="1350"/>
                </a:moveTo>
                <a:lnTo>
                  <a:pt x="0" y="143"/>
                </a:lnTo>
                <a:lnTo>
                  <a:pt x="1246" y="143"/>
                </a:lnTo>
                <a:lnTo>
                  <a:pt x="1246" y="0"/>
                </a:lnTo>
                <a:lnTo>
                  <a:pt x="1344" y="0"/>
                </a:lnTo>
                <a:lnTo>
                  <a:pt x="1344" y="143"/>
                </a:lnTo>
                <a:lnTo>
                  <a:pt x="1439" y="104"/>
                </a:lnTo>
                <a:lnTo>
                  <a:pt x="1439" y="432"/>
                </a:lnTo>
                <a:lnTo>
                  <a:pt x="1514" y="443"/>
                </a:lnTo>
                <a:lnTo>
                  <a:pt x="1514" y="630"/>
                </a:lnTo>
                <a:lnTo>
                  <a:pt x="1732" y="623"/>
                </a:lnTo>
                <a:lnTo>
                  <a:pt x="1739" y="1340"/>
                </a:lnTo>
                <a:lnTo>
                  <a:pt x="0" y="135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961200" y="966960"/>
            <a:ext cx="131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ервая очеред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65"/>
          <p:cNvSpPr/>
          <p:nvPr/>
        </p:nvSpPr>
        <p:spPr>
          <a:xfrm>
            <a:off x="3879720" y="5454720"/>
            <a:ext cx="274680" cy="152280"/>
          </a:xfrm>
          <a:prstGeom prst="rect">
            <a:avLst/>
          </a:prstGeom>
          <a:solidFill>
            <a:srgbClr val="cc009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66"/>
          <p:cNvSpPr/>
          <p:nvPr/>
        </p:nvSpPr>
        <p:spPr>
          <a:xfrm>
            <a:off x="4170240" y="5418000"/>
            <a:ext cx="169920" cy="40644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67"/>
          <p:cNvSpPr/>
          <p:nvPr/>
        </p:nvSpPr>
        <p:spPr>
          <a:xfrm>
            <a:off x="3884760" y="5037120"/>
            <a:ext cx="171360" cy="117360"/>
          </a:xfrm>
          <a:prstGeom prst="rect">
            <a:avLst/>
          </a:prstGeom>
          <a:solidFill>
            <a:srgbClr val="66ff66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8"/>
          <p:cNvSpPr/>
          <p:nvPr/>
        </p:nvSpPr>
        <p:spPr>
          <a:xfrm>
            <a:off x="3287880" y="5956200"/>
            <a:ext cx="855360" cy="66600"/>
          </a:xfrm>
          <a:prstGeom prst="rect">
            <a:avLst/>
          </a:prstGeom>
          <a:solidFill>
            <a:srgbClr val="66ff66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олилиния 9"/>
          <p:cNvSpPr/>
          <p:nvPr/>
        </p:nvSpPr>
        <p:spPr>
          <a:xfrm>
            <a:off x="2583000" y="4519440"/>
            <a:ext cx="1639800" cy="1503360"/>
          </a:xfrm>
          <a:custGeom>
            <a:avLst/>
            <a:gdLst>
              <a:gd name="textAreaLeft" fmla="*/ 0 w 1639800"/>
              <a:gd name="textAreaRight" fmla="*/ 1640160 w 1639800"/>
              <a:gd name="textAreaTop" fmla="*/ 0 h 1503360"/>
              <a:gd name="textAreaBottom" fmla="*/ 1503720 h 1503360"/>
            </a:gdLst>
            <a:ahLst/>
            <a:rect l="textAreaLeft" t="textAreaTop" r="textAreaRight" b="textAreaBottom"/>
            <a:pathLst>
              <a:path w="1640264" h="1503274">
                <a:moveTo>
                  <a:pt x="9427" y="1493847"/>
                </a:moveTo>
                <a:cubicBezTo>
                  <a:pt x="6285" y="1063356"/>
                  <a:pt x="3142" y="632866"/>
                  <a:pt x="0" y="202375"/>
                </a:cubicBezTo>
                <a:lnTo>
                  <a:pt x="254524" y="207088"/>
                </a:lnTo>
                <a:lnTo>
                  <a:pt x="259599" y="0"/>
                </a:lnTo>
                <a:lnTo>
                  <a:pt x="1626124" y="4412"/>
                </a:lnTo>
                <a:lnTo>
                  <a:pt x="1640264" y="1503274"/>
                </a:lnTo>
                <a:lnTo>
                  <a:pt x="9427" y="149384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олилиния 8"/>
          <p:cNvSpPr/>
          <p:nvPr/>
        </p:nvSpPr>
        <p:spPr>
          <a:xfrm>
            <a:off x="2597040" y="4506840"/>
            <a:ext cx="1608120" cy="151308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1625698" h="1520495">
                <a:moveTo>
                  <a:pt x="0" y="1520495"/>
                </a:moveTo>
                <a:cubicBezTo>
                  <a:pt x="18" y="1082109"/>
                  <a:pt x="36" y="643724"/>
                  <a:pt x="54" y="205338"/>
                </a:cubicBezTo>
                <a:lnTo>
                  <a:pt x="230744" y="210052"/>
                </a:lnTo>
                <a:cubicBezTo>
                  <a:pt x="229443" y="140035"/>
                  <a:pt x="228141" y="70017"/>
                  <a:pt x="226840" y="0"/>
                </a:cubicBezTo>
                <a:lnTo>
                  <a:pt x="1625486" y="2574"/>
                </a:lnTo>
                <a:cubicBezTo>
                  <a:pt x="1625557" y="508528"/>
                  <a:pt x="1625627" y="1014482"/>
                  <a:pt x="1625698" y="1520436"/>
                </a:cubicBezTo>
                <a:lnTo>
                  <a:pt x="0" y="152049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73"/>
          <p:cNvSpPr/>
          <p:nvPr/>
        </p:nvSpPr>
        <p:spPr>
          <a:xfrm>
            <a:off x="3059280" y="460044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Зона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br>
              <a:rPr sz="800"/>
            </a:b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ехнопар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олилиния 166"/>
          <p:cNvSpPr/>
          <p:nvPr/>
        </p:nvSpPr>
        <p:spPr>
          <a:xfrm>
            <a:off x="5556240" y="3660840"/>
            <a:ext cx="3387600" cy="2436840"/>
          </a:xfrm>
          <a:custGeom>
            <a:avLst/>
            <a:gdLst>
              <a:gd name="textAreaLeft" fmla="*/ 0 w 3387600"/>
              <a:gd name="textAreaRight" fmla="*/ 3387960 w 3387600"/>
              <a:gd name="textAreaTop" fmla="*/ 0 h 2436840"/>
              <a:gd name="textAreaBottom" fmla="*/ 2437200 h 2436840"/>
            </a:gdLst>
            <a:ahLst/>
            <a:rect l="textAreaLeft" t="textAreaTop" r="textAreaRight" b="textAreaBottom"/>
            <a:pathLst>
              <a:path w="3388435" h="2437092">
                <a:moveTo>
                  <a:pt x="3388435" y="2415540"/>
                </a:moveTo>
                <a:cubicBezTo>
                  <a:pt x="2787090" y="2430780"/>
                  <a:pt x="2185745" y="2446020"/>
                  <a:pt x="1772995" y="2430780"/>
                </a:cubicBezTo>
                <a:cubicBezTo>
                  <a:pt x="1360245" y="2415540"/>
                  <a:pt x="1132915" y="2383790"/>
                  <a:pt x="911935" y="2324100"/>
                </a:cubicBezTo>
                <a:cubicBezTo>
                  <a:pt x="690955" y="2264410"/>
                  <a:pt x="576655" y="2188210"/>
                  <a:pt x="447115" y="2072640"/>
                </a:cubicBezTo>
                <a:cubicBezTo>
                  <a:pt x="317575" y="1957070"/>
                  <a:pt x="208355" y="1762760"/>
                  <a:pt x="134695" y="1630680"/>
                </a:cubicBezTo>
                <a:cubicBezTo>
                  <a:pt x="61035" y="1498600"/>
                  <a:pt x="21665" y="1440180"/>
                  <a:pt x="5155" y="1280160"/>
                </a:cubicBezTo>
                <a:cubicBezTo>
                  <a:pt x="-11355" y="1120140"/>
                  <a:pt x="15315" y="810260"/>
                  <a:pt x="35635" y="670560"/>
                </a:cubicBezTo>
                <a:cubicBezTo>
                  <a:pt x="55955" y="530860"/>
                  <a:pt x="97865" y="511810"/>
                  <a:pt x="127075" y="441960"/>
                </a:cubicBezTo>
                <a:cubicBezTo>
                  <a:pt x="156285" y="372110"/>
                  <a:pt x="196925" y="325120"/>
                  <a:pt x="210895" y="251460"/>
                </a:cubicBezTo>
                <a:cubicBezTo>
                  <a:pt x="224865" y="177800"/>
                  <a:pt x="217880" y="88900"/>
                  <a:pt x="210895" y="0"/>
                </a:cubicBezTo>
              </a:path>
            </a:pathLst>
          </a:custGeom>
          <a:noFill/>
          <a:ln w="1908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олилиния 6"/>
          <p:cNvSpPr/>
          <p:nvPr/>
        </p:nvSpPr>
        <p:spPr>
          <a:xfrm>
            <a:off x="434880" y="6087960"/>
            <a:ext cx="8129520" cy="160560"/>
          </a:xfrm>
          <a:custGeom>
            <a:avLst/>
            <a:gdLst>
              <a:gd name="textAreaLeft" fmla="*/ 0 w 8129520"/>
              <a:gd name="textAreaRight" fmla="*/ 8129880 w 81295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8130540" h="160020">
                <a:moveTo>
                  <a:pt x="8130540" y="0"/>
                </a:moveTo>
                <a:cubicBezTo>
                  <a:pt x="8112760" y="6350"/>
                  <a:pt x="8034020" y="40640"/>
                  <a:pt x="8001000" y="60960"/>
                </a:cubicBezTo>
                <a:cubicBezTo>
                  <a:pt x="7967980" y="81280"/>
                  <a:pt x="7957820" y="106680"/>
                  <a:pt x="7932420" y="121920"/>
                </a:cubicBezTo>
                <a:cubicBezTo>
                  <a:pt x="7907020" y="137160"/>
                  <a:pt x="7881620" y="147320"/>
                  <a:pt x="7848600" y="152400"/>
                </a:cubicBezTo>
                <a:cubicBezTo>
                  <a:pt x="7815580" y="157480"/>
                  <a:pt x="7777480" y="151130"/>
                  <a:pt x="7734300" y="152400"/>
                </a:cubicBezTo>
                <a:cubicBezTo>
                  <a:pt x="7691120" y="153670"/>
                  <a:pt x="7633970" y="158750"/>
                  <a:pt x="7589520" y="160020"/>
                </a:cubicBezTo>
                <a:cubicBezTo>
                  <a:pt x="7545070" y="161290"/>
                  <a:pt x="8732520" y="161290"/>
                  <a:pt x="7467600" y="160020"/>
                </a:cubicBezTo>
                <a:lnTo>
                  <a:pt x="0" y="152400"/>
                </a:lnTo>
              </a:path>
            </a:pathLst>
          </a:custGeom>
          <a:noFill/>
          <a:ln w="2232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46"/>
          <p:cNvSpPr/>
          <p:nvPr/>
        </p:nvSpPr>
        <p:spPr>
          <a:xfrm>
            <a:off x="3174480" y="610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88"/>
          <p:cNvSpPr/>
          <p:nvPr/>
        </p:nvSpPr>
        <p:spPr>
          <a:xfrm>
            <a:off x="3171960" y="6427800"/>
            <a:ext cx="2394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88"/>
          <p:cNvSpPr/>
          <p:nvPr/>
        </p:nvSpPr>
        <p:spPr>
          <a:xfrm flipH="1">
            <a:off x="4600080" y="6410160"/>
            <a:ext cx="25884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46"/>
          <p:cNvSpPr/>
          <p:nvPr/>
        </p:nvSpPr>
        <p:spPr>
          <a:xfrm>
            <a:off x="4576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88"/>
          <p:cNvSpPr/>
          <p:nvPr/>
        </p:nvSpPr>
        <p:spPr>
          <a:xfrm flipH="1">
            <a:off x="6703920" y="6402240"/>
            <a:ext cx="2700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53"/>
          <p:cNvSpPr/>
          <p:nvPr/>
        </p:nvSpPr>
        <p:spPr>
          <a:xfrm>
            <a:off x="6683040" y="606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88"/>
          <p:cNvSpPr/>
          <p:nvPr/>
        </p:nvSpPr>
        <p:spPr>
          <a:xfrm flipH="1">
            <a:off x="5921280" y="6402240"/>
            <a:ext cx="2700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58"/>
          <p:cNvSpPr/>
          <p:nvPr/>
        </p:nvSpPr>
        <p:spPr>
          <a:xfrm>
            <a:off x="5911560" y="6062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3989880" y="609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88"/>
          <p:cNvSpPr/>
          <p:nvPr/>
        </p:nvSpPr>
        <p:spPr>
          <a:xfrm>
            <a:off x="4016520" y="6419880"/>
            <a:ext cx="23940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46"/>
          <p:cNvSpPr/>
          <p:nvPr/>
        </p:nvSpPr>
        <p:spPr>
          <a:xfrm>
            <a:off x="5093280" y="6091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88"/>
          <p:cNvSpPr/>
          <p:nvPr/>
        </p:nvSpPr>
        <p:spPr>
          <a:xfrm>
            <a:off x="5143680" y="6410160"/>
            <a:ext cx="291960" cy="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27760" y="5775480"/>
            <a:ext cx="13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- железная доро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17360" y="5905440"/>
            <a:ext cx="420840" cy="0"/>
          </a:xfrm>
          <a:prstGeom prst="line">
            <a:avLst/>
          </a:prstGeom>
          <a:ln w="19080">
            <a:solidFill>
              <a:srgbClr val="00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35"/>
          <p:cNvSpPr/>
          <p:nvPr/>
        </p:nvSpPr>
        <p:spPr>
          <a:xfrm>
            <a:off x="101520" y="5348160"/>
            <a:ext cx="476280" cy="2365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03"/>
          <p:cNvSpPr/>
          <p:nvPr/>
        </p:nvSpPr>
        <p:spPr>
          <a:xfrm>
            <a:off x="554040" y="5292720"/>
            <a:ext cx="18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Территория ВА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51"/>
          <p:cNvSpPr/>
          <p:nvPr/>
        </p:nvSpPr>
        <p:spPr>
          <a:xfrm>
            <a:off x="5792760" y="4122720"/>
            <a:ext cx="6480" cy="608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Диаграмма 3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643960" cy="54295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Динамика развития площади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"/>
          <p:cNvGrpSpPr/>
          <p:nvPr/>
        </p:nvGrpSpPr>
        <p:grpSpPr>
          <a:xfrm>
            <a:off x="826920" y="907920"/>
            <a:ext cx="7848720" cy="5648400"/>
            <a:chOff x="826920" y="907920"/>
            <a:chExt cx="7848720" cy="5648400"/>
          </a:xfrm>
        </p:grpSpPr>
        <p:sp>
          <p:nvSpPr>
            <p:cNvPr id="417" name="AutoShape 47"/>
            <p:cNvSpPr/>
            <p:nvPr/>
          </p:nvSpPr>
          <p:spPr>
            <a:xfrm>
              <a:off x="826920" y="907920"/>
              <a:ext cx="7848720" cy="56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6"/>
            <p:cNvSpPr/>
            <p:nvPr/>
          </p:nvSpPr>
          <p:spPr>
            <a:xfrm>
              <a:off x="2932200" y="2651760"/>
              <a:ext cx="5669640" cy="384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45"/>
            <p:cNvSpPr/>
            <p:nvPr/>
          </p:nvSpPr>
          <p:spPr>
            <a:xfrm>
              <a:off x="2987640" y="907920"/>
              <a:ext cx="3200400" cy="36648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ОО «УК ВАТП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44"/>
            <p:cNvSpPr/>
            <p:nvPr/>
          </p:nvSpPr>
          <p:spPr>
            <a:xfrm>
              <a:off x="5414760" y="1639800"/>
              <a:ext cx="2976840" cy="38880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лавный бухгалте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42"/>
            <p:cNvSpPr/>
            <p:nvPr/>
          </p:nvSpPr>
          <p:spPr>
            <a:xfrm>
              <a:off x="3044880" y="2917440"/>
              <a:ext cx="1426680" cy="80784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рганизационно-правовая груп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1"/>
            <p:cNvSpPr/>
            <p:nvPr/>
          </p:nvSpPr>
          <p:spPr>
            <a:xfrm>
              <a:off x="4752720" y="2933640"/>
              <a:ext cx="1427040" cy="79200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инансово-экономическая групп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0"/>
            <p:cNvSpPr/>
            <p:nvPr/>
          </p:nvSpPr>
          <p:spPr>
            <a:xfrm>
              <a:off x="6643800" y="2933640"/>
              <a:ext cx="1337040" cy="79200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руппа развития и маркетинг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Rectangle 38" descr=""/>
            <p:cNvPicPr/>
            <p:nvPr/>
          </p:nvPicPr>
          <p:blipFill>
            <a:blip r:embed="rId1"/>
            <a:stretch/>
          </p:blipFill>
          <p:spPr>
            <a:xfrm>
              <a:off x="4919400" y="4102200"/>
              <a:ext cx="506160" cy="19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Rectangle 37" descr=""/>
            <p:cNvPicPr/>
            <p:nvPr/>
          </p:nvPicPr>
          <p:blipFill>
            <a:blip r:embed="rId2"/>
            <a:stretch/>
          </p:blipFill>
          <p:spPr>
            <a:xfrm>
              <a:off x="6333840" y="4102200"/>
              <a:ext cx="506160" cy="1999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26" name="AutoShape 36"/>
            <p:cNvCxnSpPr/>
            <p:nvPr/>
          </p:nvCxnSpPr>
          <p:spPr>
            <a:xfrm flipV="1">
              <a:off x="5171760" y="3724560"/>
              <a:ext cx="29628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7" name="AutoShape 35"/>
            <p:cNvCxnSpPr/>
            <p:nvPr/>
          </p:nvCxnSpPr>
          <p:spPr>
            <a:xfrm flipV="1">
              <a:off x="6572880" y="3724560"/>
              <a:ext cx="73980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428" name="Rectangle 34" descr=""/>
            <p:cNvPicPr/>
            <p:nvPr/>
          </p:nvPicPr>
          <p:blipFill>
            <a:blip r:embed="rId3"/>
            <a:stretch/>
          </p:blipFill>
          <p:spPr>
            <a:xfrm>
              <a:off x="3810240" y="4102200"/>
              <a:ext cx="499680" cy="1999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29" name="AutoShape 33"/>
            <p:cNvCxnSpPr/>
            <p:nvPr/>
          </p:nvCxnSpPr>
          <p:spPr>
            <a:xfrm flipH="1" flipV="1">
              <a:off x="3758040" y="3724560"/>
              <a:ext cx="30312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30" name="Rectangle 31"/>
            <p:cNvSpPr/>
            <p:nvPr/>
          </p:nvSpPr>
          <p:spPr>
            <a:xfrm>
              <a:off x="928440" y="1644120"/>
              <a:ext cx="2924280" cy="39204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рекция сервис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9"/>
            <p:cNvSpPr/>
            <p:nvPr/>
          </p:nvSpPr>
          <p:spPr>
            <a:xfrm>
              <a:off x="893160" y="3256920"/>
              <a:ext cx="1412640" cy="502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ервисн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ирек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7"/>
            <p:cNvSpPr/>
            <p:nvPr/>
          </p:nvSpPr>
          <p:spPr>
            <a:xfrm>
              <a:off x="1113840" y="3861000"/>
              <a:ext cx="1412640" cy="60012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руппа ремонта зданий и сооруж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6"/>
            <p:cNvSpPr/>
            <p:nvPr/>
          </p:nvSpPr>
          <p:spPr>
            <a:xfrm>
              <a:off x="1340640" y="4591080"/>
              <a:ext cx="1412640" cy="64728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руппа ремонта сетей и коммуникац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5"/>
            <p:cNvSpPr/>
            <p:nvPr/>
          </p:nvSpPr>
          <p:spPr>
            <a:xfrm>
              <a:off x="882360" y="3212640"/>
              <a:ext cx="1414440" cy="53928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руппа ремон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24"/>
            <p:cNvCxnSpPr>
              <a:stCxn id="430" idx="2"/>
            </p:cNvCxnSpPr>
            <p:nvPr/>
          </p:nvCxnSpPr>
          <p:spPr>
            <a:xfrm>
              <a:off x="2390400" y="2036520"/>
              <a:ext cx="1080" cy="87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23"/>
            <p:cNvCxnSpPr/>
            <p:nvPr/>
          </p:nvCxnSpPr>
          <p:spPr>
            <a:xfrm flipV="1">
              <a:off x="5467680" y="2733120"/>
              <a:ext cx="1080" cy="20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22"/>
            <p:cNvCxnSpPr/>
            <p:nvPr/>
          </p:nvCxnSpPr>
          <p:spPr>
            <a:xfrm flipV="1">
              <a:off x="4564080" y="1274400"/>
              <a:ext cx="8640" cy="145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pic>
          <p:nvPicPr>
            <p:cNvPr id="438" name="Rectangle 21" descr=""/>
            <p:cNvPicPr/>
            <p:nvPr/>
          </p:nvPicPr>
          <p:blipFill>
            <a:blip r:embed="rId4"/>
            <a:stretch/>
          </p:blipFill>
          <p:spPr>
            <a:xfrm>
              <a:off x="3236400" y="4102200"/>
              <a:ext cx="499680" cy="19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Rectangle 20" descr=""/>
            <p:cNvPicPr/>
            <p:nvPr/>
          </p:nvPicPr>
          <p:blipFill>
            <a:blip r:embed="rId5"/>
            <a:stretch/>
          </p:blipFill>
          <p:spPr>
            <a:xfrm>
              <a:off x="7998120" y="4102200"/>
              <a:ext cx="499680" cy="19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Rectangle 19" descr=""/>
            <p:cNvPicPr/>
            <p:nvPr/>
          </p:nvPicPr>
          <p:blipFill>
            <a:blip r:embed="rId6"/>
            <a:stretch/>
          </p:blipFill>
          <p:spPr>
            <a:xfrm>
              <a:off x="5498280" y="4108320"/>
              <a:ext cx="499680" cy="19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Rectangle 18" descr=""/>
            <p:cNvPicPr/>
            <p:nvPr/>
          </p:nvPicPr>
          <p:blipFill>
            <a:blip r:embed="rId7"/>
            <a:stretch/>
          </p:blipFill>
          <p:spPr>
            <a:xfrm>
              <a:off x="6882480" y="4102200"/>
              <a:ext cx="506160" cy="19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Rectangle 17" descr=""/>
            <p:cNvPicPr/>
            <p:nvPr/>
          </p:nvPicPr>
          <p:blipFill>
            <a:blip r:embed="rId8"/>
            <a:stretch/>
          </p:blipFill>
          <p:spPr>
            <a:xfrm>
              <a:off x="7437240" y="4102200"/>
              <a:ext cx="499680" cy="19994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43" name="AutoShape 16"/>
            <p:cNvCxnSpPr/>
            <p:nvPr/>
          </p:nvCxnSpPr>
          <p:spPr>
            <a:xfrm flipV="1">
              <a:off x="3485160" y="3724560"/>
              <a:ext cx="27324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4" name="AutoShape 15"/>
            <p:cNvCxnSpPr/>
            <p:nvPr/>
          </p:nvCxnSpPr>
          <p:spPr>
            <a:xfrm flipH="1" flipV="1">
              <a:off x="5467320" y="3724560"/>
              <a:ext cx="27828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5" name="AutoShape 14"/>
            <p:cNvCxnSpPr/>
            <p:nvPr/>
          </p:nvCxnSpPr>
          <p:spPr>
            <a:xfrm flipV="1">
              <a:off x="7134840" y="3724560"/>
              <a:ext cx="17820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6" name="AutoShape 13"/>
            <p:cNvCxnSpPr/>
            <p:nvPr/>
          </p:nvCxnSpPr>
          <p:spPr>
            <a:xfrm flipH="1" flipV="1">
              <a:off x="7311960" y="3724560"/>
              <a:ext cx="37692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7" name="AutoShape 12"/>
            <p:cNvCxnSpPr/>
            <p:nvPr/>
          </p:nvCxnSpPr>
          <p:spPr>
            <a:xfrm flipH="1" flipV="1">
              <a:off x="7312320" y="3724560"/>
              <a:ext cx="944640" cy="392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8" name="AutoShape 11"/>
            <p:cNvCxnSpPr/>
            <p:nvPr/>
          </p:nvCxnSpPr>
          <p:spPr>
            <a:xfrm>
              <a:off x="3735000" y="2733840"/>
              <a:ext cx="1440" cy="18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9" name="AutoShape 10"/>
            <p:cNvCxnSpPr/>
            <p:nvPr/>
          </p:nvCxnSpPr>
          <p:spPr>
            <a:xfrm>
              <a:off x="7311960" y="2733480"/>
              <a:ext cx="1440" cy="20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0" name="Rectangle 9"/>
            <p:cNvSpPr/>
            <p:nvPr/>
          </p:nvSpPr>
          <p:spPr>
            <a:xfrm>
              <a:off x="6067080" y="2206440"/>
              <a:ext cx="1677960" cy="388440"/>
            </a:xfrm>
            <a:prstGeom prst="rect">
              <a:avLst/>
            </a:prstGeom>
            <a:solidFill>
              <a:srgbClr val="dce6f2"/>
            </a:solidFill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Бухгалтер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1" name="AutoShape 8"/>
            <p:cNvCxnSpPr/>
            <p:nvPr/>
          </p:nvCxnSpPr>
          <p:spPr>
            <a:xfrm>
              <a:off x="6903720" y="2028600"/>
              <a:ext cx="396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2" name="AutoShape 4"/>
            <p:cNvCxnSpPr/>
            <p:nvPr/>
          </p:nvCxnSpPr>
          <p:spPr>
            <a:xfrm flipV="1">
              <a:off x="1618560" y="2908800"/>
              <a:ext cx="771840" cy="1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3" name="AutoShape 3"/>
            <p:cNvCxnSpPr/>
            <p:nvPr/>
          </p:nvCxnSpPr>
          <p:spPr>
            <a:xfrm>
              <a:off x="3735000" y="2733480"/>
              <a:ext cx="3578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54" name="Text Box 2"/>
            <p:cNvSpPr/>
            <p:nvPr/>
          </p:nvSpPr>
          <p:spPr>
            <a:xfrm>
              <a:off x="6897240" y="6193080"/>
              <a:ext cx="1494360" cy="23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Дирекция ВАТ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Rectangle 2"/>
          <p:cNvSpPr/>
          <p:nvPr/>
        </p:nvSpPr>
        <p:spPr>
          <a:xfrm>
            <a:off x="0" y="0"/>
            <a:ext cx="9113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ганизационная структура УК ВАТП (концептуаль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63"/>
          <p:cNvSpPr/>
          <p:nvPr/>
        </p:nvSpPr>
        <p:spPr>
          <a:xfrm>
            <a:off x="1619280" y="292428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ая соединительная линия 2"/>
          <p:cNvSpPr/>
          <p:nvPr/>
        </p:nvSpPr>
        <p:spPr>
          <a:xfrm>
            <a:off x="5094360" y="1484280"/>
            <a:ext cx="18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ая соединительная линия 4"/>
          <p:cNvSpPr/>
          <p:nvPr/>
        </p:nvSpPr>
        <p:spPr>
          <a:xfrm flipH="1">
            <a:off x="6903720" y="1484280"/>
            <a:ext cx="324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8"/>
          <p:cNvSpPr/>
          <p:nvPr/>
        </p:nvSpPr>
        <p:spPr>
          <a:xfrm flipH="1">
            <a:off x="2390760" y="1484280"/>
            <a:ext cx="270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ая соединительная линия 15"/>
          <p:cNvSpPr/>
          <p:nvPr/>
        </p:nvSpPr>
        <p:spPr>
          <a:xfrm>
            <a:off x="2390760" y="1484280"/>
            <a:ext cx="0" cy="16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Овал 3"/>
          <p:cNvSpPr/>
          <p:nvPr/>
        </p:nvSpPr>
        <p:spPr>
          <a:xfrm>
            <a:off x="108000" y="836640"/>
            <a:ext cx="8891640" cy="5472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Схема 4" descr=""/>
          <p:cNvPicPr/>
          <p:nvPr/>
        </p:nvPicPr>
        <p:blipFill>
          <a:blip r:embed="rId1"/>
          <a:stretch/>
        </p:blipFill>
        <p:spPr>
          <a:xfrm>
            <a:off x="85680" y="804960"/>
            <a:ext cx="8966160" cy="54990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Функции Управляющей компании ВАТ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285840" y="6408720"/>
            <a:ext cx="428400" cy="2858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0"/>
          <p:cNvSpPr/>
          <p:nvPr/>
        </p:nvSpPr>
        <p:spPr>
          <a:xfrm>
            <a:off x="714240" y="6381720"/>
            <a:ext cx="313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ющие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1"/>
          <p:cNvSpPr/>
          <p:nvPr/>
        </p:nvSpPr>
        <p:spPr>
          <a:xfrm>
            <a:off x="3851280" y="6408720"/>
            <a:ext cx="428760" cy="2858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2"/>
          <p:cNvSpPr/>
          <p:nvPr/>
        </p:nvSpPr>
        <p:spPr>
          <a:xfrm>
            <a:off x="4280040" y="6407280"/>
            <a:ext cx="43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олнительные фун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"/>
          <p:cNvGraphicFramePr/>
          <p:nvPr/>
        </p:nvGraphicFramePr>
        <p:xfrm>
          <a:off x="214200" y="714240"/>
          <a:ext cx="8712360" cy="5739120"/>
        </p:xfrm>
        <a:graphic>
          <a:graphicData uri="http://schemas.openxmlformats.org/drawingml/2006/table">
            <a:tbl>
              <a:tblPr/>
              <a:tblGrid>
                <a:gridCol w="6012000"/>
                <a:gridCol w="900000"/>
                <a:gridCol w="900360"/>
                <a:gridCol w="900000"/>
              </a:tblGrid>
              <a:tr h="4320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и по сервисному обслуживанию зданий, сооружений,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 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6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 2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аренда административных и производственных площад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 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уги по организации и управлению технопарк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 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 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 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 с отчисл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 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 0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аренду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енда административных и производственных площадей для резид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9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 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монт и реконструкция помещений, передаваемых резиден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ы и услуги сторонн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 8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 6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 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быль до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 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нтабельность по чистой прибы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ланируемая экономическая эффективность УК ВАТП (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214200" y="1143000"/>
          <a:ext cx="8643960" cy="4683240"/>
        </p:xfrm>
        <a:graphic>
          <a:graphicData uri="http://schemas.openxmlformats.org/drawingml/2006/table">
            <a:tbl>
              <a:tblPr/>
              <a:tblGrid>
                <a:gridCol w="5618160"/>
                <a:gridCol w="1006560"/>
                <a:gridCol w="1009800"/>
                <a:gridCol w="1009440"/>
              </a:tblGrid>
              <a:tr h="936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36360">
                <a:tc>
                  <a:txBody>
                    <a:bodyPr lIns="9360" rIns="9360" tIns="9360" bIns="0" anchor="ctr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ая стоимость имущества, передаваемого в технопарк нарастающим итог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8 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8 9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3 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360" rIns="9360" tIns="9360" bIns="0" anchor="ctr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готы по налогу на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360" rIns="9360" tIns="9360" bIns="0" anchor="ctr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ьготы по налогу на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0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68760" rIns="68760" tIns="0" bIns="0" anchor="ctr">
                      <a:noAutofit/>
                    </a:bodyPr>
                    <a:p>
                      <a:pPr marL="142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7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асчёт выпадающих доходов по налогу на имущество и прибыль при реализации проекта ВАТП, (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250920" y="982800"/>
          <a:ext cx="8707320" cy="5497200"/>
        </p:xfrm>
        <a:graphic>
          <a:graphicData uri="http://schemas.openxmlformats.org/drawingml/2006/table">
            <a:tbl>
              <a:tblPr/>
              <a:tblGrid>
                <a:gridCol w="5035320"/>
                <a:gridCol w="1224000"/>
                <a:gridCol w="1224000"/>
                <a:gridCol w="1224000"/>
              </a:tblGrid>
              <a:tr h="996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резидентов ВАТП,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ая выручка резидентов (программа ОАО «ВАСО»), млн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рабочих мест, ч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м инвестиций, млн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5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отчисления в бюджеты, млн.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7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Ключевые показатели ВАТ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extBox 1" descr=""/>
          <p:cNvPicPr/>
          <p:nvPr/>
        </p:nvPicPr>
        <p:blipFill>
          <a:blip r:embed="rId1"/>
          <a:stretch/>
        </p:blipFill>
        <p:spPr>
          <a:xfrm>
            <a:off x="304920" y="2548080"/>
            <a:ext cx="8564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rcRect l="4738" t="0" r="11161" b="0"/>
          <a:stretch/>
        </p:blipFill>
        <p:spPr>
          <a:xfrm>
            <a:off x="6000840" y="1643040"/>
            <a:ext cx="3000240" cy="470376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8" name="Picture 3" descr=""/>
          <p:cNvPicPr/>
          <p:nvPr/>
        </p:nvPicPr>
        <p:blipFill>
          <a:blip r:embed="rId2"/>
          <a:srcRect l="7046" t="0" r="4878" b="0"/>
          <a:stretch/>
        </p:blipFill>
        <p:spPr>
          <a:xfrm>
            <a:off x="3000240" y="1714680"/>
            <a:ext cx="2927520" cy="4572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9" name="Picture 2" descr=""/>
          <p:cNvPicPr/>
          <p:nvPr/>
        </p:nvPicPr>
        <p:blipFill>
          <a:blip r:embed="rId3"/>
          <a:srcRect l="9584" t="0" r="4289" b="0"/>
          <a:stretch/>
        </p:blipFill>
        <p:spPr>
          <a:xfrm>
            <a:off x="2214720" y="1357200"/>
            <a:ext cx="2955600" cy="457200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0" name="Picture 4" descr=""/>
          <p:cNvPicPr/>
          <p:nvPr/>
        </p:nvPicPr>
        <p:blipFill>
          <a:blip r:embed="rId4"/>
          <a:srcRect l="9320" t="0" r="5506" b="0"/>
          <a:stretch/>
        </p:blipFill>
        <p:spPr>
          <a:xfrm>
            <a:off x="1571760" y="1143000"/>
            <a:ext cx="2933640" cy="50720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1" name="Picture 2" descr=""/>
          <p:cNvPicPr/>
          <p:nvPr/>
        </p:nvPicPr>
        <p:blipFill>
          <a:blip r:embed="rId5"/>
          <a:srcRect l="9793" t="0" r="4336" b="0"/>
          <a:stretch/>
        </p:blipFill>
        <p:spPr>
          <a:xfrm>
            <a:off x="142920" y="928800"/>
            <a:ext cx="3500280" cy="542268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Rectangle 2"/>
          <p:cNvSpPr/>
          <p:nvPr/>
        </p:nvSpPr>
        <p:spPr>
          <a:xfrm>
            <a:off x="0" y="0"/>
            <a:ext cx="9113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6.06.2013 подписано Соглашение о развитии авиационного клас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13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сновополагающие документы для разработки Концеп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50920" y="758880"/>
          <a:ext cx="8713800" cy="566424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1584360">
                <a:tc>
                  <a:txBody>
                    <a:bodyPr lIns="68760" rIns="68760" tIns="0" bIns="0" anchor="ctr">
                      <a:noAutofit/>
                    </a:bodyPr>
                    <a:p>
                      <a:pPr marL="541440" indent="-363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енная программа «Развитие авиационной промышленности на 2013-2025 годы» (утвержденная распоряжением Правительства Российской Федерации от 24 декабря 2012 г. №2509-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ctr">
                      <a:noAutofit/>
                    </a:bodyPr>
                    <a:p>
                      <a:pPr marL="541440" indent="-363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ряжение Правительства РФ от 02.05.2012 № ИШ-П13-2638 «Об отчуждении профильных активов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ctr">
                      <a:noAutofit/>
                    </a:bodyPr>
                    <a:p>
                      <a:pPr marL="541440" indent="-363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атегия развития ОАО «ОАК» (утверждена Протоколом №51 заседания Совета директоров ОАО «ОАК» от 26.05.2011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7480">
                <a:tc>
                  <a:txBody>
                    <a:bodyPr lIns="68760" rIns="68760" tIns="0" bIns="0" anchor="ctr">
                      <a:noAutofit/>
                    </a:bodyPr>
                    <a:p>
                      <a:pPr marL="541440" indent="-363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шения Совета директоров ОАО «ОАК» (Протокол №79 от 26.02.2013г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1040">
                <a:tc>
                  <a:txBody>
                    <a:bodyPr lIns="68760" rIns="68760" tIns="0" bIns="0" anchor="ctr">
                      <a:noAutofit/>
                    </a:bodyPr>
                    <a:p>
                      <a:pPr marL="541440" indent="-363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 «Дорожной карты» приватизации ОАО «ОАК» (утвержденные приказом Президента ОАО «ОАК» №206 от 22.10.2013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Овал 27"/>
          <p:cNvSpPr/>
          <p:nvPr/>
        </p:nvSpPr>
        <p:spPr>
          <a:xfrm>
            <a:off x="1511280" y="907920"/>
            <a:ext cx="5580000" cy="5580360"/>
          </a:xfrm>
          <a:prstGeom prst="ellipse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узел 29"/>
          <p:cNvSpPr/>
          <p:nvPr/>
        </p:nvSpPr>
        <p:spPr>
          <a:xfrm>
            <a:off x="2050920" y="1413000"/>
            <a:ext cx="4589640" cy="4589280"/>
          </a:xfrm>
          <a:prstGeom prst="flowChartConnector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узел 30"/>
          <p:cNvSpPr/>
          <p:nvPr/>
        </p:nvSpPr>
        <p:spPr>
          <a:xfrm>
            <a:off x="2484360" y="1916280"/>
            <a:ext cx="3598920" cy="3600360"/>
          </a:xfrm>
          <a:prstGeom prst="flowChartConnector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узел 31"/>
          <p:cNvSpPr/>
          <p:nvPr/>
        </p:nvSpPr>
        <p:spPr>
          <a:xfrm>
            <a:off x="3276720" y="2708280"/>
            <a:ext cx="2016000" cy="2016000"/>
          </a:xfrm>
          <a:prstGeom prst="flowChartConnector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4211640" y="3213000"/>
            <a:ext cx="98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-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9"/>
          <p:cNvSpPr/>
          <p:nvPr/>
        </p:nvSpPr>
        <p:spPr>
          <a:xfrm rot="17100000">
            <a:off x="3017520" y="325584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ск В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борочное произ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9"/>
          <p:cNvSpPr/>
          <p:nvPr/>
        </p:nvSpPr>
        <p:spPr>
          <a:xfrm rot="17100000">
            <a:off x="318240" y="2613600"/>
            <a:ext cx="32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3-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спомогательные производства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9"/>
          <p:cNvSpPr/>
          <p:nvPr/>
        </p:nvSpPr>
        <p:spPr>
          <a:xfrm rot="17100000">
            <a:off x="924840" y="2862360"/>
            <a:ext cx="30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2-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другие основные производ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9"/>
          <p:cNvSpPr/>
          <p:nvPr/>
        </p:nvSpPr>
        <p:spPr>
          <a:xfrm rot="17100000">
            <a:off x="1559160" y="2983320"/>
            <a:ext cx="314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1-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агрегатно-сборочные производств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5867280" y="28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7"/>
          <p:cNvSpPr/>
          <p:nvPr/>
        </p:nvSpPr>
        <p:spPr>
          <a:xfrm>
            <a:off x="4788000" y="249228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И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5148360" y="4124160"/>
            <a:ext cx="12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Композитное производство ВАС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2700360" y="501336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Механообра-батывающее производство ВАС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7"/>
          <p:cNvSpPr/>
          <p:nvPr/>
        </p:nvSpPr>
        <p:spPr>
          <a:xfrm>
            <a:off x="5299200" y="5052960"/>
            <a:ext cx="1439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Заготовительно-штамповочное  производство ВАС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851280" y="551664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нологическая оснастка ВАС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5219640" y="2997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С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137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уществующая индустриальная модель ОАО «ВАС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Овал 27"/>
          <p:cNvSpPr/>
          <p:nvPr/>
        </p:nvSpPr>
        <p:spPr>
          <a:xfrm>
            <a:off x="1511280" y="907920"/>
            <a:ext cx="5580000" cy="5580360"/>
          </a:xfrm>
          <a:prstGeom prst="ellipse">
            <a:avLst/>
          </a:prstGeom>
          <a:solidFill>
            <a:srgbClr val="fff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узел 29"/>
          <p:cNvSpPr/>
          <p:nvPr/>
        </p:nvSpPr>
        <p:spPr>
          <a:xfrm>
            <a:off x="2016000" y="1413000"/>
            <a:ext cx="4589640" cy="4589280"/>
          </a:xfrm>
          <a:prstGeom prst="flowChartConnector">
            <a:avLst/>
          </a:prstGeom>
          <a:solidFill>
            <a:srgbClr val="ffffb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узел 30"/>
          <p:cNvSpPr/>
          <p:nvPr/>
        </p:nvSpPr>
        <p:spPr>
          <a:xfrm>
            <a:off x="2556000" y="1916280"/>
            <a:ext cx="3598560" cy="3600360"/>
          </a:xfrm>
          <a:prstGeom prst="flowChartConnector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узел 31"/>
          <p:cNvSpPr/>
          <p:nvPr/>
        </p:nvSpPr>
        <p:spPr>
          <a:xfrm>
            <a:off x="3276720" y="2708280"/>
            <a:ext cx="2016000" cy="2016000"/>
          </a:xfrm>
          <a:prstGeom prst="flowChartConnector">
            <a:avLst/>
          </a:prstGeom>
          <a:solidFill>
            <a:srgbClr val="dce6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олилиния 106"/>
          <p:cNvSpPr/>
          <p:nvPr/>
        </p:nvSpPr>
        <p:spPr>
          <a:xfrm>
            <a:off x="1979640" y="3714840"/>
            <a:ext cx="6407280" cy="2870280"/>
          </a:xfrm>
          <a:custGeom>
            <a:avLst/>
            <a:gdLst>
              <a:gd name="textAreaLeft" fmla="*/ 0 w 6407280"/>
              <a:gd name="textAreaRight" fmla="*/ 6407640 w 6407280"/>
              <a:gd name="textAreaTop" fmla="*/ 0 h 2870280"/>
              <a:gd name="textAreaBottom" fmla="*/ 2870280 h 2870280"/>
            </a:gdLst>
            <a:ahLst/>
            <a:rect l="textAreaLeft" t="textAreaTop" r="textAreaRight" b="textAreaBottom"/>
            <a:pathLst>
              <a:path w="6407150" h="2870200">
                <a:moveTo>
                  <a:pt x="1511300" y="654050"/>
                </a:moveTo>
                <a:lnTo>
                  <a:pt x="1619250" y="755650"/>
                </a:lnTo>
                <a:lnTo>
                  <a:pt x="1727200" y="838200"/>
                </a:lnTo>
                <a:lnTo>
                  <a:pt x="1809750" y="895350"/>
                </a:lnTo>
                <a:lnTo>
                  <a:pt x="2006600" y="977900"/>
                </a:lnTo>
                <a:lnTo>
                  <a:pt x="2235200" y="1028700"/>
                </a:lnTo>
                <a:lnTo>
                  <a:pt x="2451100" y="1003300"/>
                </a:lnTo>
                <a:lnTo>
                  <a:pt x="2692400" y="946150"/>
                </a:lnTo>
                <a:lnTo>
                  <a:pt x="2895600" y="819150"/>
                </a:lnTo>
                <a:lnTo>
                  <a:pt x="3067050" y="666750"/>
                </a:lnTo>
                <a:lnTo>
                  <a:pt x="3181350" y="501650"/>
                </a:lnTo>
                <a:lnTo>
                  <a:pt x="3257550" y="311150"/>
                </a:lnTo>
                <a:lnTo>
                  <a:pt x="3295650" y="152400"/>
                </a:lnTo>
                <a:lnTo>
                  <a:pt x="3314700" y="6350"/>
                </a:lnTo>
                <a:lnTo>
                  <a:pt x="6407150" y="0"/>
                </a:lnTo>
                <a:cubicBezTo>
                  <a:pt x="6405033" y="668867"/>
                  <a:pt x="6402991" y="2004061"/>
                  <a:pt x="6400874" y="2672928"/>
                </a:cubicBezTo>
                <a:lnTo>
                  <a:pt x="3384550" y="2686050"/>
                </a:lnTo>
                <a:lnTo>
                  <a:pt x="3067050" y="2781300"/>
                </a:lnTo>
                <a:lnTo>
                  <a:pt x="2800350" y="2838450"/>
                </a:lnTo>
                <a:lnTo>
                  <a:pt x="2527300" y="2863850"/>
                </a:lnTo>
                <a:lnTo>
                  <a:pt x="2228850" y="2870200"/>
                </a:lnTo>
                <a:lnTo>
                  <a:pt x="1885950" y="2838450"/>
                </a:lnTo>
                <a:lnTo>
                  <a:pt x="1612900" y="2781300"/>
                </a:lnTo>
                <a:lnTo>
                  <a:pt x="1333500" y="2698750"/>
                </a:lnTo>
                <a:lnTo>
                  <a:pt x="1155700" y="2628900"/>
                </a:lnTo>
                <a:lnTo>
                  <a:pt x="1009650" y="2559050"/>
                </a:lnTo>
                <a:lnTo>
                  <a:pt x="800100" y="2444750"/>
                </a:lnTo>
                <a:lnTo>
                  <a:pt x="615950" y="2317750"/>
                </a:lnTo>
                <a:lnTo>
                  <a:pt x="431800" y="2178050"/>
                </a:lnTo>
                <a:lnTo>
                  <a:pt x="260350" y="2019300"/>
                </a:lnTo>
                <a:lnTo>
                  <a:pt x="152400" y="1898650"/>
                </a:lnTo>
                <a:lnTo>
                  <a:pt x="0" y="1708150"/>
                </a:lnTo>
                <a:lnTo>
                  <a:pt x="1511300" y="65405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9"/>
          <p:cNvSpPr/>
          <p:nvPr/>
        </p:nvSpPr>
        <p:spPr>
          <a:xfrm>
            <a:off x="4356000" y="3284640"/>
            <a:ext cx="982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л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н-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ВТ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9"/>
          <p:cNvSpPr/>
          <p:nvPr/>
        </p:nvSpPr>
        <p:spPr>
          <a:xfrm rot="17100000">
            <a:off x="3017520" y="3255840"/>
            <a:ext cx="165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уск  ВС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борочное производст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9"/>
          <p:cNvSpPr/>
          <p:nvPr/>
        </p:nvSpPr>
        <p:spPr>
          <a:xfrm rot="17100000">
            <a:off x="845640" y="2953080"/>
            <a:ext cx="20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3-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9"/>
          <p:cNvSpPr/>
          <p:nvPr/>
        </p:nvSpPr>
        <p:spPr>
          <a:xfrm rot="17100000">
            <a:off x="1349280" y="3050640"/>
            <a:ext cx="206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2-го уров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9"/>
          <p:cNvSpPr/>
          <p:nvPr/>
        </p:nvSpPr>
        <p:spPr>
          <a:xfrm rot="17100000">
            <a:off x="2069280" y="3103560"/>
            <a:ext cx="206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щики 1-го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АС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5435640" y="2133720"/>
            <a:ext cx="72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7"/>
          <p:cNvSpPr/>
          <p:nvPr/>
        </p:nvSpPr>
        <p:spPr>
          <a:xfrm>
            <a:off x="4788000" y="2492280"/>
            <a:ext cx="6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И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5310360" y="3922560"/>
            <a:ext cx="131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ЦС «Композитное производство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3562200" y="470520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ЦК «Мотогондолы и пилоны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2793960" y="5380200"/>
            <a:ext cx="144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ЦС  «Механообра-батывающее производство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7"/>
          <p:cNvSpPr/>
          <p:nvPr/>
        </p:nvSpPr>
        <p:spPr>
          <a:xfrm>
            <a:off x="6060960" y="2786040"/>
            <a:ext cx="165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ЦС «Заготовительно-штамповочное  производство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6215040" y="3397320"/>
            <a:ext cx="157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С «Спецоснаст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63"/>
          <p:cNvSpPr/>
          <p:nvPr/>
        </p:nvSpPr>
        <p:spPr>
          <a:xfrm flipV="1">
            <a:off x="1981080" y="4363920"/>
            <a:ext cx="1524240" cy="105120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Дуга 65"/>
          <p:cNvSpPr/>
          <p:nvPr/>
        </p:nvSpPr>
        <p:spPr>
          <a:xfrm rot="10800000">
            <a:off x="3276720" y="2712600"/>
            <a:ext cx="2087280" cy="2033640"/>
          </a:xfrm>
          <a:custGeom>
            <a:avLst/>
            <a:gdLst>
              <a:gd name="textAreaLeft" fmla="*/ 1076400 w 2087280"/>
              <a:gd name="textAreaRight" fmla="*/ 1859040 w 2087280"/>
              <a:gd name="textAreaTop" fmla="*/ 360 h 2033640"/>
              <a:gd name="textAreaBottom" fmla="*/ 381600 h 2033640"/>
            </a:gdLst>
            <a:ahLst/>
            <a:rect l="textAreaLeft" t="textAreaTop" r="textAreaRight" b="textAreaBottom"/>
            <a:pathLst>
              <a:path stroke="0" w="2087563" h="2033587">
                <a:moveTo>
                  <a:pt x="1076443" y="498"/>
                </a:moveTo>
                <a:lnTo>
                  <a:pt x="1076443" y="498"/>
                </a:lnTo>
                <a:arcTo wR="1043782" hR="1016794" stAng="-5289555" swAng="3014876"/>
                <a:lnTo>
                  <a:pt x="1043782" y="1016794"/>
                </a:lnTo>
                <a:close/>
              </a:path>
              <a:path fill="none" w="2087563" h="2033587">
                <a:moveTo>
                  <a:pt x="1076443" y="498"/>
                </a:moveTo>
                <a:lnTo>
                  <a:pt x="1076443" y="498"/>
                </a:lnTo>
                <a:arcTo wR="1043782" hR="1016794" stAng="-5289555" swAng="3014876"/>
              </a:path>
            </a:pathLst>
          </a:custGeom>
          <a:noFill/>
          <a:ln w="31680">
            <a:solidFill>
              <a:srgbClr val="3760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Дуга 68"/>
          <p:cNvSpPr/>
          <p:nvPr/>
        </p:nvSpPr>
        <p:spPr>
          <a:xfrm rot="5400000">
            <a:off x="3233520" y="2681280"/>
            <a:ext cx="2087640" cy="2033280"/>
          </a:xfrm>
          <a:custGeom>
            <a:avLst/>
            <a:gdLst>
              <a:gd name="textAreaLeft" fmla="*/ 1057320 w 2087640"/>
              <a:gd name="textAreaRight" fmla="*/ 2088000 w 2087640"/>
              <a:gd name="textAreaTop" fmla="*/ 0 h 2033280"/>
              <a:gd name="textAreaBottom" fmla="*/ 1016640 h 2033280"/>
            </a:gdLst>
            <a:ahLst/>
            <a:rect l="textAreaLeft" t="textAreaTop" r="textAreaRight" b="textAreaBottom"/>
            <a:pathLst>
              <a:path stroke="0" w="2087563" h="2033588">
                <a:moveTo>
                  <a:pt x="1057166" y="84"/>
                </a:moveTo>
                <a:lnTo>
                  <a:pt x="1057166" y="84"/>
                </a:lnTo>
                <a:arcTo wR="1043782" hR="1016794" stAng="-5354748" swAng="5354758"/>
                <a:lnTo>
                  <a:pt x="1043782" y="1016794"/>
                </a:lnTo>
                <a:close/>
              </a:path>
              <a:path fill="none" w="2087563" h="2033588">
                <a:moveTo>
                  <a:pt x="1057166" y="84"/>
                </a:moveTo>
                <a:lnTo>
                  <a:pt x="1057166" y="84"/>
                </a:lnTo>
                <a:arcTo wR="1043782" hR="1016794" stAng="-5354748" swAng="5354758"/>
              </a:path>
            </a:pathLst>
          </a:custGeom>
          <a:noFill/>
          <a:ln w="31680">
            <a:solidFill>
              <a:srgbClr val="3760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9"/>
          <p:cNvSpPr/>
          <p:nvPr/>
        </p:nvSpPr>
        <p:spPr>
          <a:xfrm>
            <a:off x="5292720" y="3727440"/>
            <a:ext cx="309564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Дуга 74"/>
          <p:cNvSpPr/>
          <p:nvPr/>
        </p:nvSpPr>
        <p:spPr>
          <a:xfrm rot="10800000">
            <a:off x="1476360" y="1142280"/>
            <a:ext cx="5688000" cy="5445000"/>
          </a:xfrm>
          <a:custGeom>
            <a:avLst/>
            <a:gdLst>
              <a:gd name="textAreaLeft" fmla="*/ 1787040 w 5688000"/>
              <a:gd name="textAreaRight" fmla="*/ 5181840 w 5688000"/>
              <a:gd name="textAreaTop" fmla="*/ 0 h 5445000"/>
              <a:gd name="textAreaBottom" fmla="*/ 1172160 h 5445000"/>
            </a:gdLst>
            <a:ahLst/>
            <a:rect l="textAreaLeft" t="textAreaTop" r="textAreaRight" b="textAreaBottom"/>
            <a:pathLst>
              <a:path stroke="0" w="5688013" h="5445125">
                <a:moveTo>
                  <a:pt x="1786994" y="195024"/>
                </a:moveTo>
                <a:lnTo>
                  <a:pt x="1786994" y="195024"/>
                </a:lnTo>
                <a:arcTo wR="2844007" hR="2722563" stAng="-6761676" swAng="4748613"/>
                <a:lnTo>
                  <a:pt x="2844007" y="2722563"/>
                </a:lnTo>
                <a:close/>
              </a:path>
              <a:path fill="none" w="5688013" h="5445125">
                <a:moveTo>
                  <a:pt x="1786994" y="195024"/>
                </a:moveTo>
                <a:lnTo>
                  <a:pt x="1786994" y="195024"/>
                </a:lnTo>
                <a:arcTo wR="2844007" hR="2722563" stAng="-6761676" swAng="4748613"/>
              </a:path>
            </a:pathLst>
          </a:custGeom>
          <a:noFill/>
          <a:ln w="31680">
            <a:solidFill>
              <a:srgbClr val="3760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76"/>
          <p:cNvSpPr/>
          <p:nvPr/>
        </p:nvSpPr>
        <p:spPr>
          <a:xfrm>
            <a:off x="5364000" y="6392880"/>
            <a:ext cx="3024360" cy="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78"/>
          <p:cNvSpPr/>
          <p:nvPr/>
        </p:nvSpPr>
        <p:spPr>
          <a:xfrm flipV="1">
            <a:off x="8388360" y="3714480"/>
            <a:ext cx="0" cy="2678040"/>
          </a:xfrm>
          <a:prstGeom prst="line">
            <a:avLst/>
          </a:prstGeom>
          <a:ln w="2844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5219640" y="2997360"/>
            <a:ext cx="720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С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4"/>
          <p:cNvSpPr/>
          <p:nvPr/>
        </p:nvSpPr>
        <p:spPr>
          <a:xfrm>
            <a:off x="6665760" y="3773520"/>
            <a:ext cx="12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ОО Авиаспец-инструм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3562200" y="6012000"/>
            <a:ext cx="234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ЦС «Транспортно-логистический комплек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04"/>
          <p:cNvSpPr/>
          <p:nvPr/>
        </p:nvSpPr>
        <p:spPr>
          <a:xfrm>
            <a:off x="6900840" y="4275000"/>
            <a:ext cx="1440000" cy="144000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ЦИС ВА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4"/>
          <p:cNvSpPr/>
          <p:nvPr/>
        </p:nvSpPr>
        <p:spPr>
          <a:xfrm>
            <a:off x="7596360" y="2276640"/>
            <a:ext cx="1152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ехнопарк ВАТП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2014-20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Прямая со стрелкой 110"/>
          <p:cNvCxnSpPr>
            <a:stCxn id="160" idx="2"/>
          </p:cNvCxnSpPr>
          <p:nvPr/>
        </p:nvCxnSpPr>
        <p:spPr>
          <a:xfrm flipH="1">
            <a:off x="8000640" y="2876040"/>
            <a:ext cx="172080" cy="1196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Овал 127"/>
          <p:cNvSpPr/>
          <p:nvPr/>
        </p:nvSpPr>
        <p:spPr>
          <a:xfrm>
            <a:off x="7108920" y="5967360"/>
            <a:ext cx="360360" cy="36036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28"/>
          <p:cNvSpPr/>
          <p:nvPr/>
        </p:nvSpPr>
        <p:spPr>
          <a:xfrm>
            <a:off x="7469280" y="5967360"/>
            <a:ext cx="360360" cy="36036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29"/>
          <p:cNvSpPr/>
          <p:nvPr/>
        </p:nvSpPr>
        <p:spPr>
          <a:xfrm>
            <a:off x="7829640" y="5967360"/>
            <a:ext cx="360360" cy="36036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4"/>
          <p:cNvSpPr/>
          <p:nvPr/>
        </p:nvSpPr>
        <p:spPr>
          <a:xfrm>
            <a:off x="6700680" y="5715000"/>
            <a:ext cx="1611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шние резиден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4"/>
          <p:cNvSpPr/>
          <p:nvPr/>
        </p:nvSpPr>
        <p:spPr>
          <a:xfrm>
            <a:off x="7358040" y="1000080"/>
            <a:ext cx="1150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витие Технопар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3600" indent="-93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АТП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2016-20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42"/>
          <p:cNvCxnSpPr>
            <a:stCxn id="166" idx="2"/>
          </p:cNvCxnSpPr>
          <p:nvPr/>
        </p:nvCxnSpPr>
        <p:spPr>
          <a:xfrm flipH="1">
            <a:off x="6071400" y="1768320"/>
            <a:ext cx="1863000" cy="87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8" name="TextBox 145"/>
          <p:cNvSpPr/>
          <p:nvPr/>
        </p:nvSpPr>
        <p:spPr>
          <a:xfrm>
            <a:off x="5852160" y="7858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АО «ВАС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Прямая со стрелкой 146"/>
          <p:cNvCxnSpPr>
            <a:stCxn id="168" idx="2"/>
          </p:cNvCxnSpPr>
          <p:nvPr/>
        </p:nvCxnSpPr>
        <p:spPr>
          <a:xfrm flipH="1">
            <a:off x="4357800" y="1154160"/>
            <a:ext cx="2340360" cy="18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Прямая со стрелкой 146"/>
          <p:cNvCxnSpPr>
            <a:stCxn id="168" idx="2"/>
          </p:cNvCxnSpPr>
          <p:nvPr/>
        </p:nvCxnSpPr>
        <p:spPr>
          <a:xfrm flipH="1">
            <a:off x="4357800" y="1154160"/>
            <a:ext cx="2340360" cy="1203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Прямая со стрелкой 142"/>
          <p:cNvCxnSpPr>
            <a:stCxn id="166" idx="2"/>
          </p:cNvCxnSpPr>
          <p:nvPr/>
        </p:nvCxnSpPr>
        <p:spPr>
          <a:xfrm flipH="1">
            <a:off x="6714360" y="1768320"/>
            <a:ext cx="1220040" cy="87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Овал 104"/>
          <p:cNvSpPr/>
          <p:nvPr/>
        </p:nvSpPr>
        <p:spPr>
          <a:xfrm>
            <a:off x="549360" y="1522440"/>
            <a:ext cx="1093680" cy="1049400"/>
          </a:xfrm>
          <a:prstGeom prst="ellipse">
            <a:avLst/>
          </a:prstGeom>
          <a:solidFill>
            <a:srgbClr val="e4fd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ЗА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«Русавиа-интер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04"/>
          <p:cNvSpPr/>
          <p:nvPr/>
        </p:nvSpPr>
        <p:spPr>
          <a:xfrm>
            <a:off x="214200" y="2571840"/>
            <a:ext cx="1019160" cy="1019160"/>
          </a:xfrm>
          <a:prstGeom prst="ellipse">
            <a:avLst/>
          </a:prstGeom>
          <a:solidFill>
            <a:srgbClr val="e4fd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ЗАО «АККО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04"/>
          <p:cNvSpPr/>
          <p:nvPr/>
        </p:nvSpPr>
        <p:spPr>
          <a:xfrm>
            <a:off x="214200" y="3676680"/>
            <a:ext cx="1038240" cy="1038240"/>
          </a:xfrm>
          <a:prstGeom prst="ellipse">
            <a:avLst/>
          </a:prstGeom>
          <a:solidFill>
            <a:srgbClr val="e4fd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ВГТ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04"/>
          <p:cNvSpPr/>
          <p:nvPr/>
        </p:nvSpPr>
        <p:spPr>
          <a:xfrm>
            <a:off x="1176480" y="5533920"/>
            <a:ext cx="1038240" cy="1038240"/>
          </a:xfrm>
          <a:prstGeom prst="ellipse">
            <a:avLst/>
          </a:prstGeom>
          <a:solidFill>
            <a:srgbClr val="e4fd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ВНИИАСП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04"/>
          <p:cNvSpPr/>
          <p:nvPr/>
        </p:nvSpPr>
        <p:spPr>
          <a:xfrm>
            <a:off x="428760" y="4748040"/>
            <a:ext cx="1038240" cy="1038240"/>
          </a:xfrm>
          <a:prstGeom prst="ellipse">
            <a:avLst/>
          </a:prstGeom>
          <a:solidFill>
            <a:srgbClr val="e4fdc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Cyr"/>
              </a:rPr>
              <a:t>ЗАО «ВСЦ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олилиния 57"/>
          <p:cNvSpPr/>
          <p:nvPr/>
        </p:nvSpPr>
        <p:spPr>
          <a:xfrm>
            <a:off x="81000" y="866880"/>
            <a:ext cx="8562960" cy="5848200"/>
          </a:xfrm>
          <a:custGeom>
            <a:avLst/>
            <a:gdLst/>
            <a:ahLst/>
            <a:rect l="l" t="t" r="r" b="b"/>
            <a:pathLst>
              <a:path w="8562975" h="5848350">
                <a:moveTo>
                  <a:pt x="9525" y="2600325"/>
                </a:moveTo>
                <a:lnTo>
                  <a:pt x="38100" y="5819775"/>
                </a:lnTo>
                <a:lnTo>
                  <a:pt x="8553450" y="5848350"/>
                </a:lnTo>
                <a:lnTo>
                  <a:pt x="8562975" y="2781300"/>
                </a:lnTo>
                <a:lnTo>
                  <a:pt x="5429250" y="9525"/>
                </a:lnTo>
                <a:lnTo>
                  <a:pt x="19050" y="0"/>
                </a:lnTo>
                <a:lnTo>
                  <a:pt x="0" y="2586013"/>
                </a:lnTo>
              </a:path>
            </a:pathLst>
          </a:custGeom>
          <a:noFill/>
          <a:ln w="38160">
            <a:solidFill>
              <a:srgbClr val="17375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5"/>
          <p:cNvSpPr/>
          <p:nvPr/>
        </p:nvSpPr>
        <p:spPr>
          <a:xfrm>
            <a:off x="105840" y="853920"/>
            <a:ext cx="304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Воронежский авиационный 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Arial"/>
              </a:rPr>
              <a:t>клас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7"/>
          <p:cNvSpPr/>
          <p:nvPr/>
        </p:nvSpPr>
        <p:spPr>
          <a:xfrm>
            <a:off x="6745320" y="5959440"/>
            <a:ext cx="360360" cy="36036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115920"/>
            <a:ext cx="9113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ерспективная индустриальная модель развития ОАО «ВАСО»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26"/>
          <p:cNvSpPr/>
          <p:nvPr/>
        </p:nvSpPr>
        <p:spPr>
          <a:xfrm>
            <a:off x="6000840" y="4929120"/>
            <a:ext cx="250560" cy="250920"/>
          </a:xfrm>
          <a:prstGeom prst="ellipse">
            <a:avLst/>
          </a:prstGeom>
          <a:solidFill>
            <a:srgbClr val="2206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5490000" y="525312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К ВАТ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110"/>
          <p:cNvCxnSpPr>
            <a:stCxn id="181" idx="3"/>
          </p:cNvCxnSpPr>
          <p:nvPr/>
        </p:nvCxnSpPr>
        <p:spPr>
          <a:xfrm flipH="1">
            <a:off x="3987360" y="5141880"/>
            <a:ext cx="2052000" cy="805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4" name="Прямая со стрелкой 110"/>
          <p:cNvCxnSpPr>
            <a:stCxn id="181" idx="2"/>
          </p:cNvCxnSpPr>
          <p:nvPr/>
        </p:nvCxnSpPr>
        <p:spPr>
          <a:xfrm flipH="1">
            <a:off x="3308040" y="5054400"/>
            <a:ext cx="2692800" cy="186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5" name="Овал 126"/>
          <p:cNvSpPr/>
          <p:nvPr/>
        </p:nvSpPr>
        <p:spPr>
          <a:xfrm>
            <a:off x="2655720" y="5160960"/>
            <a:ext cx="250920" cy="250920"/>
          </a:xfrm>
          <a:prstGeom prst="ellipse">
            <a:avLst/>
          </a:prstGeom>
          <a:solidFill>
            <a:srgbClr val="e46c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Овал 126"/>
          <p:cNvSpPr/>
          <p:nvPr/>
        </p:nvSpPr>
        <p:spPr>
          <a:xfrm>
            <a:off x="3282840" y="4780080"/>
            <a:ext cx="249480" cy="250560"/>
          </a:xfrm>
          <a:prstGeom prst="ellipse">
            <a:avLst/>
          </a:prstGeom>
          <a:solidFill>
            <a:srgbClr val="e46c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26"/>
          <p:cNvSpPr/>
          <p:nvPr/>
        </p:nvSpPr>
        <p:spPr>
          <a:xfrm>
            <a:off x="5186520" y="4268880"/>
            <a:ext cx="249120" cy="250560"/>
          </a:xfrm>
          <a:prstGeom prst="ellipse">
            <a:avLst/>
          </a:prstGeom>
          <a:solidFill>
            <a:srgbClr val="e46c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110"/>
          <p:cNvCxnSpPr>
            <a:stCxn id="181" idx="1"/>
          </p:cNvCxnSpPr>
          <p:nvPr/>
        </p:nvCxnSpPr>
        <p:spPr>
          <a:xfrm flipH="1" flipV="1">
            <a:off x="5631840" y="4568040"/>
            <a:ext cx="407160" cy="397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89" name="Прямая со стрелкой 110"/>
          <p:cNvCxnSpPr>
            <a:stCxn id="181" idx="7"/>
          </p:cNvCxnSpPr>
          <p:nvPr/>
        </p:nvCxnSpPr>
        <p:spPr>
          <a:xfrm flipV="1">
            <a:off x="6215040" y="4380840"/>
            <a:ext cx="642240" cy="585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0" name="Овал 126"/>
          <p:cNvSpPr/>
          <p:nvPr/>
        </p:nvSpPr>
        <p:spPr>
          <a:xfrm>
            <a:off x="6753240" y="4172040"/>
            <a:ext cx="249120" cy="250560"/>
          </a:xfrm>
          <a:prstGeom prst="ellipse">
            <a:avLst/>
          </a:prstGeom>
          <a:solidFill>
            <a:srgbClr val="ffb3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 стрелкой 110"/>
          <p:cNvCxnSpPr/>
          <p:nvPr/>
        </p:nvCxnSpPr>
        <p:spPr>
          <a:xfrm flipH="1" flipV="1">
            <a:off x="4908240" y="4968000"/>
            <a:ext cx="1092960" cy="32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2" name="Овал 126"/>
          <p:cNvSpPr/>
          <p:nvPr/>
        </p:nvSpPr>
        <p:spPr>
          <a:xfrm>
            <a:off x="3317760" y="6031080"/>
            <a:ext cx="249480" cy="250560"/>
          </a:xfrm>
          <a:prstGeom prst="ellipse">
            <a:avLst/>
          </a:prstGeom>
          <a:solidFill>
            <a:srgbClr val="e46c0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 стрелкой 110"/>
          <p:cNvCxnSpPr>
            <a:stCxn id="181" idx="6"/>
          </p:cNvCxnSpPr>
          <p:nvPr/>
        </p:nvCxnSpPr>
        <p:spPr>
          <a:xfrm flipV="1">
            <a:off x="6251400" y="4982400"/>
            <a:ext cx="643320" cy="72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4" name="Прямая со стрелкой 110"/>
          <p:cNvCxnSpPr>
            <a:stCxn id="181" idx="5"/>
          </p:cNvCxnSpPr>
          <p:nvPr/>
        </p:nvCxnSpPr>
        <p:spPr>
          <a:xfrm>
            <a:off x="6214680" y="5141880"/>
            <a:ext cx="67212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"/>
          <p:cNvGrpSpPr/>
          <p:nvPr/>
        </p:nvGrpSpPr>
        <p:grpSpPr>
          <a:xfrm>
            <a:off x="277920" y="990720"/>
            <a:ext cx="8883720" cy="4335120"/>
            <a:chOff x="277920" y="990720"/>
            <a:chExt cx="8883720" cy="4335120"/>
          </a:xfrm>
        </p:grpSpPr>
        <p:sp>
          <p:nvSpPr>
            <p:cNvPr id="196" name="AutoShape 19"/>
            <p:cNvSpPr/>
            <p:nvPr/>
          </p:nvSpPr>
          <p:spPr>
            <a:xfrm>
              <a:off x="277920" y="1118520"/>
              <a:ext cx="8883720" cy="42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8"/>
            <p:cNvSpPr/>
            <p:nvPr/>
          </p:nvSpPr>
          <p:spPr>
            <a:xfrm>
              <a:off x="3297600" y="2501640"/>
              <a:ext cx="2519280" cy="100944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Управляющая компания технопа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1152360" y="4292640"/>
              <a:ext cx="2521080" cy="100764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нутренние резиден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5446440" y="4312080"/>
              <a:ext cx="2519280" cy="100728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нешние резидент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6"/>
            <p:cNvSpPr/>
            <p:nvPr/>
          </p:nvSpPr>
          <p:spPr>
            <a:xfrm>
              <a:off x="405720" y="2501640"/>
              <a:ext cx="2519280" cy="100944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ервисные компа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технопа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3284280" y="990720"/>
              <a:ext cx="2519280" cy="100728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азовая организация  ОАО «ВАСО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"/>
            <p:cNvSpPr/>
            <p:nvPr/>
          </p:nvSpPr>
          <p:spPr>
            <a:xfrm>
              <a:off x="6186240" y="2501640"/>
              <a:ext cx="2521080" cy="1009440"/>
            </a:xfrm>
            <a:prstGeom prst="rect">
              <a:avLst/>
            </a:prstGeom>
            <a:solidFill>
              <a:srgbClr val="dce6f2"/>
            </a:solidFill>
            <a:ln w="158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артнёры технопа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Структура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9"/>
          <p:cNvSpPr/>
          <p:nvPr/>
        </p:nvSpPr>
        <p:spPr>
          <a:xfrm>
            <a:off x="4543560" y="2000160"/>
            <a:ext cx="14040" cy="50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31"/>
          <p:cNvSpPr/>
          <p:nvPr/>
        </p:nvSpPr>
        <p:spPr>
          <a:xfrm flipH="1">
            <a:off x="2925720" y="3006720"/>
            <a:ext cx="37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35"/>
          <p:cNvSpPr/>
          <p:nvPr/>
        </p:nvSpPr>
        <p:spPr>
          <a:xfrm>
            <a:off x="5816520" y="3006720"/>
            <a:ext cx="370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43"/>
          <p:cNvSpPr/>
          <p:nvPr/>
        </p:nvSpPr>
        <p:spPr>
          <a:xfrm flipH="1">
            <a:off x="2412720" y="3511440"/>
            <a:ext cx="2144520" cy="78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45"/>
          <p:cNvSpPr/>
          <p:nvPr/>
        </p:nvSpPr>
        <p:spPr>
          <a:xfrm>
            <a:off x="4557600" y="3511440"/>
            <a:ext cx="2148120" cy="80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982800"/>
          <a:ext cx="8713800" cy="5686200"/>
        </p:xfrm>
        <a:graphic>
          <a:graphicData uri="http://schemas.openxmlformats.org/drawingml/2006/table">
            <a:tbl>
              <a:tblPr/>
              <a:tblGrid>
                <a:gridCol w="2449440"/>
                <a:gridCol w="3166920"/>
                <a:gridCol w="936720"/>
                <a:gridCol w="1152720"/>
                <a:gridCol w="1008000"/>
              </a:tblGrid>
              <a:tr h="851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ед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соз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, м</a:t>
                      </a:r>
                      <a:r>
                        <a:rPr b="1" lang="ru-RU" sz="1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я числен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сть персон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пециализации «Механообрабатывающее производ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реднегабаритных деталей из металлических материалов и сплавов (сталь, алюминий, тита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8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пециализации «Композитное производ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иловых авиационных агрегатов из П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 7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компетенции «Мотогондолы и пило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ирование и производство авиационных агрегатов: мотогондол и пилонов перспективных видов В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корп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78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пеци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Транспортно-логистический комплек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ализованный учет, хранение и транспортировка материалов и комплектую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12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пеци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пециальная технологическая оснаст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специальной технологической осн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99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нтр специ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Заготовительно-штамповочное производств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деталей из металлического листа, труб  и профильного прок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0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тенциальные внутренние резиденты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85840" y="714240"/>
          <a:ext cx="8713800" cy="5643720"/>
        </p:xfrm>
        <a:graphic>
          <a:graphicData uri="http://schemas.openxmlformats.org/drawingml/2006/table">
            <a:tbl>
              <a:tblPr/>
              <a:tblGrid>
                <a:gridCol w="2449440"/>
                <a:gridCol w="2550960"/>
                <a:gridCol w="1285920"/>
                <a:gridCol w="1106640"/>
                <a:gridCol w="1320840"/>
              </a:tblGrid>
              <a:tr h="105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едприя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из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 регистрации в качестве резиден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, м</a:t>
                      </a:r>
                      <a:r>
                        <a:rPr b="1" lang="ru-RU" sz="13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я числен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сть персона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7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АВИАСПЕЦИНСТРУМЕНТ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пециального режущего и мерительного инстру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АО «Центр испытаний и сертификации Воронежского авиационного класт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брокер, центр инжиниринга и серт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 «РУСАВИАИНТЕ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йн и производство интерьеров ВС, производство авиационных деталей и узлов, производство изделий из П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5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Производство деталей из магниевых сплаво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ниевое литье, механическая обработка отливок из магниевых спла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 0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АВИАЛАЙН-В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норма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1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тенциальные внешние резиденты технопа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50920" y="785880"/>
          <a:ext cx="8713800" cy="5402160"/>
        </p:xfrm>
        <a:graphic>
          <a:graphicData uri="http://schemas.openxmlformats.org/drawingml/2006/table">
            <a:tbl>
              <a:tblPr/>
              <a:tblGrid>
                <a:gridCol w="2449440"/>
                <a:gridCol w="2592360"/>
                <a:gridCol w="1279440"/>
                <a:gridCol w="1071720"/>
                <a:gridCol w="132084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пред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еци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  регистрации в качестве резид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ощадь, м</a:t>
                      </a:r>
                      <a:r>
                        <a:rPr b="1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елевая числе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сть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 «АВИАТЕХСНАБ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авиационных кресел и наземного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 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О «Научно-технический центр авиационных технолог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и управленческий консалтинг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изводственное моделирование и расч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О «АРМИК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специальных композиционных материалов, сертиф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4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ронежский авиационный техникум им. В.П. Чкалов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кадров для авиационной промышл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знечно-штамповочное произ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поковок и штампо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2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 «Гидроаппарату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 гидроаппа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 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отенциальные внешние резиденты технопарка (продолж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6:12:16Z</dcterms:created>
  <dc:creator>User</dc:creator>
  <dc:description/>
  <dc:language>en-US</dc:language>
  <cp:lastModifiedBy>э</cp:lastModifiedBy>
  <dcterms:modified xsi:type="dcterms:W3CDTF">2014-07-18T10:57:18Z</dcterms:modified>
  <cp:revision>1490</cp:revision>
  <dc:subject/>
  <dc:title>Слайд 1</dc:title>
</cp:coreProperties>
</file>